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3C21-781C-44AA-A20C-5357361A1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A008-E4D3-4F84-AFF7-D92429CB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A304-297F-4198-95EA-CDA0369FD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FCA8-5695-48BB-AC44-7B70FC07B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BB06-840D-4DD0-A54B-D8C9BB57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648A-7636-421E-9398-062C8742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A55E-D006-4E1C-A0BF-4C86F2A0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3664-2B28-4AEF-A09C-7195D35A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5D15-727A-434E-B251-27B25BB5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ACB7-9B9F-42CE-AE62-EF0B7869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0EE7-23CB-44A9-BD6C-3C879E0E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9B80-AD5A-4F0C-946A-2B8B00A6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193A-8F8A-443F-BF3D-FF8510FF6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124080" y="1981080"/>
          <a:ext cx="3048120" cy="27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81080"/>
                    <a:ext cx="3048120" cy="27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294200" y="5271480"/>
            <a:ext cx="668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Comic Sans MS"/>
              </a:rPr>
              <a:t>CONSTRUCTION AU COMP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arall15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5458680" y="2459160"/>
            <a:ext cx="1746360" cy="1222920"/>
            <a:chOff x="5458680" y="2459160"/>
            <a:chExt cx="1746360" cy="1222920"/>
          </a:xfrm>
        </p:grpSpPr>
        <p:sp>
          <p:nvSpPr>
            <p:cNvPr id="67" name=""/>
            <p:cNvSpPr/>
            <p:nvPr/>
          </p:nvSpPr>
          <p:spPr>
            <a:xfrm rot="3544200">
              <a:off x="7072200" y="2428200"/>
              <a:ext cx="51840" cy="21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3544200">
              <a:off x="6895080" y="2502720"/>
              <a:ext cx="155520" cy="218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6046200" y="2690280"/>
              <a:ext cx="846720" cy="9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6046200" y="2697480"/>
              <a:ext cx="935640" cy="98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5458680" y="2646000"/>
              <a:ext cx="140760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5458680" y="2563920"/>
              <a:ext cx="144324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596600" y="4799160"/>
            <a:ext cx="575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Prendre l ’écartement [BC] avec le com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et le reporter en 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arall15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  <p:grpSp>
        <p:nvGrpSpPr>
          <p:cNvPr id="76" name=""/>
          <p:cNvGrpSpPr/>
          <p:nvPr/>
        </p:nvGrpSpPr>
        <p:grpSpPr>
          <a:xfrm>
            <a:off x="2936160" y="1727280"/>
            <a:ext cx="1513080" cy="1617480"/>
            <a:chOff x="2936160" y="1727280"/>
            <a:chExt cx="1513080" cy="1617480"/>
          </a:xfrm>
        </p:grpSpPr>
        <p:sp>
          <p:nvSpPr>
            <p:cNvPr id="77" name=""/>
            <p:cNvSpPr/>
            <p:nvPr/>
          </p:nvSpPr>
          <p:spPr>
            <a:xfrm rot="1947000">
              <a:off x="4339440" y="1725120"/>
              <a:ext cx="55440" cy="21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47000">
              <a:off x="4205880" y="1847520"/>
              <a:ext cx="165960" cy="218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3964680" y="2063880"/>
              <a:ext cx="289440" cy="12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3964680" y="2032200"/>
              <a:ext cx="375120" cy="131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936160" y="2034360"/>
              <a:ext cx="1271160" cy="65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2936160" y="1942920"/>
              <a:ext cx="1263600" cy="74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arall14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2893320" y="2049480"/>
            <a:ext cx="1665000" cy="1502640"/>
            <a:chOff x="2893320" y="2049480"/>
            <a:chExt cx="1665000" cy="1502640"/>
          </a:xfrm>
        </p:grpSpPr>
        <p:sp>
          <p:nvSpPr>
            <p:cNvPr id="86" name=""/>
            <p:cNvSpPr/>
            <p:nvPr/>
          </p:nvSpPr>
          <p:spPr>
            <a:xfrm rot="2616600">
              <a:off x="4434840" y="2038320"/>
              <a:ext cx="55440" cy="21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2616600">
              <a:off x="4279320" y="2143440"/>
              <a:ext cx="165960" cy="218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3776040" y="2351160"/>
              <a:ext cx="531360" cy="120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3775320" y="2336040"/>
              <a:ext cx="622080" cy="121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893320" y="2313000"/>
              <a:ext cx="137412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893320" y="2221920"/>
              <a:ext cx="1383840" cy="48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arall13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2864880" y="2655000"/>
            <a:ext cx="1778040" cy="1132560"/>
            <a:chOff x="2864880" y="2655000"/>
            <a:chExt cx="1778040" cy="1132560"/>
          </a:xfrm>
        </p:grpSpPr>
        <p:sp>
          <p:nvSpPr>
            <p:cNvPr id="95" name=""/>
            <p:cNvSpPr/>
            <p:nvPr/>
          </p:nvSpPr>
          <p:spPr>
            <a:xfrm rot="3888000">
              <a:off x="4504320" y="2617200"/>
              <a:ext cx="55440" cy="21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3888000">
              <a:off x="4317120" y="2679120"/>
              <a:ext cx="165960" cy="218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3384000" y="2860200"/>
              <a:ext cx="929520" cy="92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383640" y="2878920"/>
              <a:ext cx="1019160" cy="90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64880" y="2684880"/>
              <a:ext cx="1425240" cy="12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64880" y="2684880"/>
              <a:ext cx="1467360" cy="4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arall12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2926440" y="2655720"/>
            <a:ext cx="1655640" cy="1215000"/>
            <a:chOff x="2926440" y="2655720"/>
            <a:chExt cx="1655640" cy="1215000"/>
          </a:xfrm>
        </p:grpSpPr>
        <p:sp>
          <p:nvSpPr>
            <p:cNvPr id="104" name=""/>
            <p:cNvSpPr/>
            <p:nvPr/>
          </p:nvSpPr>
          <p:spPr>
            <a:xfrm rot="5130000">
              <a:off x="4443120" y="3175200"/>
              <a:ext cx="55440" cy="21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5130000">
              <a:off x="4242960" y="3186000"/>
              <a:ext cx="165960" cy="218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3022200" y="3331800"/>
              <a:ext cx="1197720" cy="53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3022200" y="3380760"/>
              <a:ext cx="1274400" cy="48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26440" y="2655720"/>
              <a:ext cx="1288800" cy="62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26440" y="2655720"/>
              <a:ext cx="1357200" cy="55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arall12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2970360" y="1066680"/>
            <a:ext cx="2514240" cy="1599840"/>
            <a:chOff x="2970360" y="1066680"/>
            <a:chExt cx="2514240" cy="1599840"/>
          </a:xfrm>
        </p:grpSpPr>
        <p:sp>
          <p:nvSpPr>
            <p:cNvPr id="113" name=""/>
            <p:cNvSpPr/>
            <p:nvPr/>
          </p:nvSpPr>
          <p:spPr>
            <a:xfrm>
              <a:off x="4456080" y="1066680"/>
              <a:ext cx="114120" cy="21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41600" y="1212120"/>
              <a:ext cx="342720" cy="218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0560" y="1430280"/>
              <a:ext cx="914040" cy="123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4684320" y="1357560"/>
              <a:ext cx="799920" cy="130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970360" y="1430280"/>
              <a:ext cx="1485720" cy="123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70360" y="1357560"/>
              <a:ext cx="1371240" cy="130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596600" y="4799160"/>
            <a:ext cx="575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Prendre l ’écartement [AB] avec le com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et le reporter en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arall12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3651120" y="2235960"/>
            <a:ext cx="2405160" cy="1832400"/>
            <a:chOff x="3651120" y="2235960"/>
            <a:chExt cx="2405160" cy="1832400"/>
          </a:xfrm>
        </p:grpSpPr>
        <p:sp>
          <p:nvSpPr>
            <p:cNvPr id="123" name=""/>
            <p:cNvSpPr/>
            <p:nvPr/>
          </p:nvSpPr>
          <p:spPr>
            <a:xfrm rot="21034200">
              <a:off x="4827240" y="2243160"/>
              <a:ext cx="110880" cy="21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1034200">
              <a:off x="4740120" y="2386800"/>
              <a:ext cx="332280" cy="218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79520" y="2594520"/>
              <a:ext cx="1076760" cy="10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5076000" y="2504880"/>
              <a:ext cx="979560" cy="116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3651120" y="2612880"/>
              <a:ext cx="1218600" cy="145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3651120" y="2559240"/>
              <a:ext cx="1097280" cy="15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arall11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3615480" y="2120400"/>
            <a:ext cx="2436120" cy="1663200"/>
            <a:chOff x="3615480" y="2120400"/>
            <a:chExt cx="2436120" cy="1663200"/>
          </a:xfrm>
        </p:grpSpPr>
        <p:sp>
          <p:nvSpPr>
            <p:cNvPr id="132" name=""/>
            <p:cNvSpPr/>
            <p:nvPr/>
          </p:nvSpPr>
          <p:spPr>
            <a:xfrm rot="21457200">
              <a:off x="4992840" y="2122560"/>
              <a:ext cx="110880" cy="21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21457200">
              <a:off x="4888080" y="2268000"/>
              <a:ext cx="332280" cy="218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14880" y="2484000"/>
              <a:ext cx="936720" cy="11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5221440" y="2406600"/>
              <a:ext cx="829440" cy="127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3615480" y="2488680"/>
              <a:ext cx="1388160" cy="129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3615480" y="2420280"/>
              <a:ext cx="1274400" cy="136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arall10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3627360" y="1990440"/>
            <a:ext cx="2436120" cy="1637280"/>
            <a:chOff x="3627360" y="1990440"/>
            <a:chExt cx="2436120" cy="1637280"/>
          </a:xfrm>
        </p:grpSpPr>
        <p:sp>
          <p:nvSpPr>
            <p:cNvPr id="141" name=""/>
            <p:cNvSpPr/>
            <p:nvPr/>
          </p:nvSpPr>
          <p:spPr>
            <a:xfrm rot="133800">
              <a:off x="5124960" y="1992240"/>
              <a:ext cx="110880" cy="21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33800">
              <a:off x="5007960" y="2137320"/>
              <a:ext cx="332280" cy="218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25760" y="2358000"/>
              <a:ext cx="837720" cy="12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5338800" y="2289600"/>
              <a:ext cx="724320" cy="13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627360" y="2353680"/>
              <a:ext cx="1487880" cy="11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3627360" y="2276640"/>
              <a:ext cx="1379520" cy="125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arall09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3628080" y="1870920"/>
            <a:ext cx="2410560" cy="1730880"/>
            <a:chOff x="3628080" y="1870920"/>
            <a:chExt cx="2410560" cy="1730880"/>
          </a:xfrm>
        </p:grpSpPr>
        <p:sp>
          <p:nvSpPr>
            <p:cNvPr id="150" name=""/>
            <p:cNvSpPr/>
            <p:nvPr/>
          </p:nvSpPr>
          <p:spPr>
            <a:xfrm rot="516000">
              <a:off x="5274360" y="1877760"/>
              <a:ext cx="110880" cy="21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16000">
              <a:off x="5141520" y="2021400"/>
              <a:ext cx="332280" cy="218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47080" y="2247120"/>
              <a:ext cx="691560" cy="135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5466960" y="2191680"/>
              <a:ext cx="571320" cy="141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628080" y="2230560"/>
              <a:ext cx="1609200" cy="100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628080" y="2142000"/>
              <a:ext cx="1510200" cy="10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rall21" descr=""/>
          <p:cNvPicPr/>
          <p:nvPr/>
        </p:nvPicPr>
        <p:blipFill>
          <a:blip r:embed="rId1"/>
          <a:stretch/>
        </p:blipFill>
        <p:spPr>
          <a:xfrm>
            <a:off x="3581280" y="2286000"/>
            <a:ext cx="4048200" cy="2295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749960" y="5256720"/>
            <a:ext cx="572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On veut tracer le parallélogramme ABC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7880" y="2283120"/>
            <a:ext cx="223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ttent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l faut imag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ans sa tê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à quel endr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e point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e plac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arall22" descr=""/>
          <p:cNvPicPr/>
          <p:nvPr/>
        </p:nvPicPr>
        <p:blipFill>
          <a:blip r:embed="rId2"/>
          <a:stretch/>
        </p:blipFill>
        <p:spPr>
          <a:xfrm>
            <a:off x="3581280" y="2286000"/>
            <a:ext cx="404820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arall08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arall07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arall06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arall05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arall04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arall03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arall02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arall01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arall01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1675440" y="4951440"/>
            <a:ext cx="550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Un parallélogramme a des côtés oppos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arallèles et de même longue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363760" y="1979280"/>
            <a:ext cx="4524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U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APORAM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arall21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arall20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arall19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arall18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arall17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arall16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arall15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10:26:41Z</dcterms:created>
  <dc:creator>Vincent OBATON</dc:creator>
  <dc:description/>
  <dc:language>en-US</dc:language>
  <cp:lastModifiedBy>OBATON Vincent</cp:lastModifiedBy>
  <dcterms:modified xsi:type="dcterms:W3CDTF">2001-03-19T16:25:31Z</dcterms:modified>
  <cp:revision>35</cp:revision>
  <dc:subject/>
  <dc:title>Parallelogramme ( Compas )</dc:title>
</cp:coreProperties>
</file>