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F47-A6A6-42AE-8A05-A9A0AAF5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0ED-4864-4AED-A664-2310E773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0C1-29E9-4C14-8A78-B45F101B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ABF-3A20-4BCA-A659-DF6B3E67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360-15F2-41D5-BD60-02689D49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FB8-7F16-421A-BBB0-41EBD54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717-FCCE-417D-A76D-A7D4E12F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B92-20FE-4232-AE4D-12968A5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013-42BA-4581-9568-16B9D8A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CAD-0D7A-4BDE-9B44-B796D9C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66D-22CB-40B2-B26F-59B7575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A47-8E40-43CF-8645-33FAF8D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5F4-72C4-47D7-8B19-33EDAFD0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1981080"/>
          <a:ext cx="304812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81080"/>
                    <a:ext cx="304812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94200" y="527148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ONSTRUCTION AU COM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458680" y="2459160"/>
            <a:ext cx="1746360" cy="1222920"/>
            <a:chOff x="5458680" y="2459160"/>
            <a:chExt cx="1746360" cy="1222920"/>
          </a:xfrm>
        </p:grpSpPr>
        <p:sp>
          <p:nvSpPr>
            <p:cNvPr id="67" name=""/>
            <p:cNvSpPr/>
            <p:nvPr/>
          </p:nvSpPr>
          <p:spPr>
            <a:xfrm rot="3544200">
              <a:off x="7072200" y="2428200"/>
              <a:ext cx="518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544200">
              <a:off x="6895080" y="2502720"/>
              <a:ext cx="1555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046200" y="2690280"/>
              <a:ext cx="846720" cy="9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046200" y="2697480"/>
              <a:ext cx="935640" cy="9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458680" y="2646000"/>
              <a:ext cx="14076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58680" y="2563920"/>
              <a:ext cx="144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BC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936160" y="1727280"/>
            <a:ext cx="1513080" cy="1617480"/>
            <a:chOff x="2936160" y="1727280"/>
            <a:chExt cx="1513080" cy="1617480"/>
          </a:xfrm>
        </p:grpSpPr>
        <p:sp>
          <p:nvSpPr>
            <p:cNvPr id="77" name=""/>
            <p:cNvSpPr/>
            <p:nvPr/>
          </p:nvSpPr>
          <p:spPr>
            <a:xfrm rot="1947000">
              <a:off x="4339440" y="17251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47000">
              <a:off x="4205880" y="18475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64680" y="2063880"/>
              <a:ext cx="289440" cy="12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964680" y="2032200"/>
              <a:ext cx="37512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936160" y="2034360"/>
              <a:ext cx="127116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936160" y="1942920"/>
              <a:ext cx="1263600" cy="7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arall1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893320" y="2049480"/>
            <a:ext cx="1665000" cy="1502640"/>
            <a:chOff x="2893320" y="2049480"/>
            <a:chExt cx="1665000" cy="1502640"/>
          </a:xfrm>
        </p:grpSpPr>
        <p:sp>
          <p:nvSpPr>
            <p:cNvPr id="86" name=""/>
            <p:cNvSpPr/>
            <p:nvPr/>
          </p:nvSpPr>
          <p:spPr>
            <a:xfrm rot="2616600">
              <a:off x="4434840" y="20383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616600">
              <a:off x="4279320" y="214344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76040" y="2351160"/>
              <a:ext cx="531360" cy="12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775320" y="2336040"/>
              <a:ext cx="622080" cy="12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893320" y="2313000"/>
              <a:ext cx="137412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3320" y="2221920"/>
              <a:ext cx="138384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arall1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864880" y="2655000"/>
            <a:ext cx="1778040" cy="1132560"/>
            <a:chOff x="2864880" y="2655000"/>
            <a:chExt cx="1778040" cy="1132560"/>
          </a:xfrm>
        </p:grpSpPr>
        <p:sp>
          <p:nvSpPr>
            <p:cNvPr id="95" name=""/>
            <p:cNvSpPr/>
            <p:nvPr/>
          </p:nvSpPr>
          <p:spPr>
            <a:xfrm rot="3888000">
              <a:off x="4504320" y="2617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3888000">
              <a:off x="4317120" y="26791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384000" y="2860200"/>
              <a:ext cx="9295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83640" y="2878920"/>
              <a:ext cx="101916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64880" y="2684880"/>
              <a:ext cx="142524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4880" y="2684880"/>
              <a:ext cx="146736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926440" y="2655720"/>
            <a:ext cx="1655640" cy="1215000"/>
            <a:chOff x="2926440" y="2655720"/>
            <a:chExt cx="1655640" cy="1215000"/>
          </a:xfrm>
        </p:grpSpPr>
        <p:sp>
          <p:nvSpPr>
            <p:cNvPr id="104" name=""/>
            <p:cNvSpPr/>
            <p:nvPr/>
          </p:nvSpPr>
          <p:spPr>
            <a:xfrm rot="5130000">
              <a:off x="4443120" y="3175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130000">
              <a:off x="4242960" y="318600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022200" y="3331800"/>
              <a:ext cx="1197720" cy="53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022200" y="3380760"/>
              <a:ext cx="127440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6440" y="2655720"/>
              <a:ext cx="128880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6440" y="2655720"/>
              <a:ext cx="135720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970360" y="1066680"/>
            <a:ext cx="2514240" cy="1599840"/>
            <a:chOff x="2970360" y="1066680"/>
            <a:chExt cx="2514240" cy="1599840"/>
          </a:xfrm>
        </p:grpSpPr>
        <p:sp>
          <p:nvSpPr>
            <p:cNvPr id="113" name=""/>
            <p:cNvSpPr/>
            <p:nvPr/>
          </p:nvSpPr>
          <p:spPr>
            <a:xfrm>
              <a:off x="4456080" y="1066680"/>
              <a:ext cx="1141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1600" y="1212120"/>
              <a:ext cx="3427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0560" y="1430280"/>
              <a:ext cx="91404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684320" y="1357560"/>
              <a:ext cx="79992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0360" y="1430280"/>
              <a:ext cx="148572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70360" y="1357560"/>
              <a:ext cx="137124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AB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651120" y="2235960"/>
            <a:ext cx="2405160" cy="1832400"/>
            <a:chOff x="3651120" y="2235960"/>
            <a:chExt cx="2405160" cy="1832400"/>
          </a:xfrm>
        </p:grpSpPr>
        <p:sp>
          <p:nvSpPr>
            <p:cNvPr id="123" name=""/>
            <p:cNvSpPr/>
            <p:nvPr/>
          </p:nvSpPr>
          <p:spPr>
            <a:xfrm rot="21034200">
              <a:off x="4827240" y="22431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34200">
              <a:off x="4740120" y="23868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9520" y="2594520"/>
              <a:ext cx="107676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076000" y="2504880"/>
              <a:ext cx="97956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51120" y="2612880"/>
              <a:ext cx="1218600" cy="14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1120" y="2559240"/>
              <a:ext cx="1097280" cy="15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arall1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615480" y="2120400"/>
            <a:ext cx="2436120" cy="1663200"/>
            <a:chOff x="3615480" y="2120400"/>
            <a:chExt cx="2436120" cy="1663200"/>
          </a:xfrm>
        </p:grpSpPr>
        <p:sp>
          <p:nvSpPr>
            <p:cNvPr id="132" name=""/>
            <p:cNvSpPr/>
            <p:nvPr/>
          </p:nvSpPr>
          <p:spPr>
            <a:xfrm rot="21457200">
              <a:off x="4992840" y="21225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457200">
              <a:off x="4888080" y="22680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4880" y="2484000"/>
              <a:ext cx="936720" cy="11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221440" y="2406600"/>
              <a:ext cx="829440" cy="12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615480" y="2488680"/>
              <a:ext cx="138816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15480" y="2420280"/>
              <a:ext cx="127440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arall1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627360" y="1990440"/>
            <a:ext cx="2436120" cy="1637280"/>
            <a:chOff x="3627360" y="1990440"/>
            <a:chExt cx="2436120" cy="1637280"/>
          </a:xfrm>
        </p:grpSpPr>
        <p:sp>
          <p:nvSpPr>
            <p:cNvPr id="141" name=""/>
            <p:cNvSpPr/>
            <p:nvPr/>
          </p:nvSpPr>
          <p:spPr>
            <a:xfrm rot="133800">
              <a:off x="5124960" y="199224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3800">
              <a:off x="5007960" y="213732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25760" y="2358000"/>
              <a:ext cx="83772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338800" y="2289600"/>
              <a:ext cx="724320" cy="13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627360" y="2353680"/>
              <a:ext cx="1487880" cy="11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27360" y="2276640"/>
              <a:ext cx="1379520" cy="12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arall0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628080" y="1870920"/>
            <a:ext cx="2410560" cy="1730880"/>
            <a:chOff x="3628080" y="1870920"/>
            <a:chExt cx="2410560" cy="1730880"/>
          </a:xfrm>
        </p:grpSpPr>
        <p:sp>
          <p:nvSpPr>
            <p:cNvPr id="150" name=""/>
            <p:cNvSpPr/>
            <p:nvPr/>
          </p:nvSpPr>
          <p:spPr>
            <a:xfrm rot="516000">
              <a:off x="5274360" y="18777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16000">
              <a:off x="5141520" y="20214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7080" y="2247120"/>
              <a:ext cx="691560" cy="13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466960" y="2191680"/>
              <a:ext cx="571320" cy="141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28080" y="2230560"/>
              <a:ext cx="1609200" cy="10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28080" y="2142000"/>
              <a:ext cx="151020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rall2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49960" y="52567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On veut tracer le parallélogramme AB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7880" y="228312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ten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l faut imag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ns sa 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 quel en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 poi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 plac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rall22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arall0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arall0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arall0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arall0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rall0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arall0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arall0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675440" y="495144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parallélogramme a des côtés oppos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llèles et de même longu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63760" y="1979280"/>
            <a:ext cx="452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APORA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arall2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rall2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rall1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rall1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rall1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rall1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26:41Z</dcterms:created>
  <dc:creator>Vincent OBATON</dc:creator>
  <dc:description/>
  <dc:language>en-US</dc:language>
  <cp:lastModifiedBy>OBATON Vincent</cp:lastModifiedBy>
  <dcterms:modified xsi:type="dcterms:W3CDTF">2001-03-19T16:25:31Z</dcterms:modified>
  <cp:revision>35</cp:revision>
  <dc:subject/>
  <dc:title>Parallelogramme ( Compas )</dc:title>
</cp:coreProperties>
</file>