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1E2C-DF10-4B7D-9EAF-AE73D2D97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A8E6-D949-47C3-ADE0-8CF28187D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2F1A-D025-4C53-B9FA-101C17070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25FA-57A0-4AF1-989E-8CA5C18D1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1AEC-1EBF-46FA-ABA7-9ECACA59E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24FA-06F9-409C-A88D-FB46F06FC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9210-CBEE-4F45-A259-5CAC9063A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BA90-294C-4691-8EB4-9FF4D608D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09A1-03A3-4755-B540-4C5CFDC4C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5949-C173-4A4B-8487-51D65B17F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72A5-639B-4091-9EA3-1839749A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3826-06BA-429A-995D-D8C89C1E3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27671-248C-4E85-9C73-4AF67D6C52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hyperlink" Target="mailto:Vincent.Obaton@ac-grenoble.fr" TargetMode="External"/><Relationship Id="rId4" Type="http://schemas.openxmlformats.org/officeDocument/2006/relationships/hyperlink" Target="mailto:Vincent.Obaton@ac-grenoble.fr" TargetMode="External"/><Relationship Id="rId5" Type="http://schemas.openxmlformats.org/officeDocument/2006/relationships/hyperlink" Target="mailto:Vincent.Obaton@ac-grenoble.fr" TargetMode="External"/><Relationship Id="rId6" Type="http://schemas.openxmlformats.org/officeDocument/2006/relationships/hyperlink" Target="mailto:Vincent.Obaton@ac-grenoble.fr" TargetMode="External"/><Relationship Id="rId7" Type="http://schemas.openxmlformats.org/officeDocument/2006/relationships/hyperlink" Target="mailto:Vincent.Obaton@ac-grenoble.fr" TargetMode="External"/><Relationship Id="rId8" Type="http://schemas.openxmlformats.org/officeDocument/2006/relationships/hyperlink" Target="mailto:Vincent.Obaton@ac-grenoble.fr" TargetMode="External"/><Relationship Id="rId9" Type="http://schemas.openxmlformats.org/officeDocument/2006/relationships/hyperlink" Target="http://www.ecomaths.net/" TargetMode="External"/><Relationship Id="rId10" Type="http://schemas.openxmlformats.org/officeDocument/2006/relationships/hyperlink" Target="http://www.ecomaths.net/" TargetMode="External"/><Relationship Id="rId11" Type="http://schemas.openxmlformats.org/officeDocument/2006/relationships/hyperlink" Target="http://www.ecomaths.net/" TargetMode="External"/><Relationship Id="rId12" Type="http://schemas.openxmlformats.org/officeDocument/2006/relationships/hyperlink" Target="http://www.ecomaths.net/" TargetMode="External"/><Relationship Id="rId13" Type="http://schemas.openxmlformats.org/officeDocument/2006/relationships/hyperlink" Target="http://www.ecomaths.net/" TargetMode="External"/><Relationship Id="rId14" Type="http://schemas.openxmlformats.org/officeDocument/2006/relationships/hyperlink" Target="http://www.ecomaths.net/" TargetMode="External"/><Relationship Id="rId1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" y="227880"/>
            <a:ext cx="854604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D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A MEDIATRICE D ’UN SEG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3581280" y="2362320"/>
          <a:ext cx="1814760" cy="165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2362320"/>
                    <a:ext cx="1814760" cy="16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2337840" y="4417560"/>
            <a:ext cx="464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Diaporama de </a:t>
            </a:r>
            <a:r>
              <a:rPr b="1" lang="fr-FR" sz="2400" spc="-1" strike="noStrike">
                <a:solidFill>
                  <a:srgbClr val="ccccff"/>
                </a:solidFill>
                <a:latin typeface="Times New Roman"/>
              </a:rPr>
              <a:t>Vincent OBATON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llège Côte Rousse ( Chambéry )</a:t>
            </a:r>
            <a:br>
              <a:rPr sz="2400"/>
            </a:br>
            <a:r>
              <a:rPr b="0" lang="fr-FR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Vincent.</a:t>
            </a:r>
            <a:r>
              <a:rPr b="0" lang="fr-FR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Obaton</a:t>
            </a:r>
            <a:r>
              <a:rPr b="0" lang="fr-FR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@</a:t>
            </a:r>
            <a:r>
              <a:rPr b="0" lang="fr-FR" sz="2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ac</a:t>
            </a:r>
            <a:r>
              <a:rPr b="0" lang="fr-FR" sz="24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-grenoble.</a:t>
            </a:r>
            <a:r>
              <a:rPr b="0" lang="fr-FR" sz="24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fr</a:t>
            </a:r>
            <a:br>
              <a:rPr sz="2400"/>
            </a:br>
            <a:r>
              <a:rPr b="0" lang="fr-FR" sz="24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http</a:t>
            </a:r>
            <a:r>
              <a:rPr b="0" lang="fr-FR" sz="24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://</a:t>
            </a:r>
            <a:r>
              <a:rPr b="0" lang="fr-FR" sz="24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www</a:t>
            </a:r>
            <a:r>
              <a:rPr b="0" lang="fr-FR" sz="24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.</a:t>
            </a:r>
            <a:r>
              <a:rPr b="0" lang="fr-FR" sz="24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ecomaths</a:t>
            </a:r>
            <a:r>
              <a:rPr b="0" lang="fr-FR" sz="24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Mediatrice12" descr=""/>
          <p:cNvPicPr/>
          <p:nvPr/>
        </p:nvPicPr>
        <p:blipFill>
          <a:blip r:embed="rId1"/>
          <a:stretch/>
        </p:blipFill>
        <p:spPr>
          <a:xfrm>
            <a:off x="2681280" y="1643040"/>
            <a:ext cx="3781440" cy="3571920"/>
          </a:xfrm>
          <a:prstGeom prst="rect">
            <a:avLst/>
          </a:prstGeom>
          <a:ln w="0">
            <a:noFill/>
          </a:ln>
        </p:spPr>
      </p:pic>
      <p:grpSp>
        <p:nvGrpSpPr>
          <p:cNvPr id="120" name=""/>
          <p:cNvGrpSpPr/>
          <p:nvPr/>
        </p:nvGrpSpPr>
        <p:grpSpPr>
          <a:xfrm>
            <a:off x="4980600" y="1859040"/>
            <a:ext cx="1899000" cy="1522440"/>
            <a:chOff x="4980600" y="1859040"/>
            <a:chExt cx="1899000" cy="1522440"/>
          </a:xfrm>
        </p:grpSpPr>
        <p:sp>
          <p:nvSpPr>
            <p:cNvPr id="121" name=""/>
            <p:cNvSpPr/>
            <p:nvPr/>
          </p:nvSpPr>
          <p:spPr>
            <a:xfrm rot="3918000">
              <a:off x="6726600" y="2060640"/>
              <a:ext cx="75960" cy="218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3918000">
              <a:off x="6518520" y="2121480"/>
              <a:ext cx="228240" cy="2181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5681160" y="2311200"/>
              <a:ext cx="868320" cy="107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5681160" y="2349720"/>
              <a:ext cx="966240" cy="103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980600" y="1859040"/>
              <a:ext cx="1537200" cy="38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980600" y="1859040"/>
              <a:ext cx="1571400" cy="28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200" y="227880"/>
            <a:ext cx="8546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D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A MEDIATRICE D ’UN SEG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Mediatrice11" descr=""/>
          <p:cNvPicPr/>
          <p:nvPr/>
        </p:nvPicPr>
        <p:blipFill>
          <a:blip r:embed="rId1"/>
          <a:stretch/>
        </p:blipFill>
        <p:spPr>
          <a:xfrm>
            <a:off x="2681280" y="1643040"/>
            <a:ext cx="3781440" cy="3571920"/>
          </a:xfrm>
          <a:prstGeom prst="rect">
            <a:avLst/>
          </a:prstGeom>
          <a:ln w="0">
            <a:noFill/>
          </a:ln>
        </p:spPr>
      </p:pic>
      <p:grpSp>
        <p:nvGrpSpPr>
          <p:cNvPr id="129" name=""/>
          <p:cNvGrpSpPr/>
          <p:nvPr/>
        </p:nvGrpSpPr>
        <p:grpSpPr>
          <a:xfrm>
            <a:off x="3409920" y="3367080"/>
            <a:ext cx="1739160" cy="1588680"/>
            <a:chOff x="3409920" y="3367080"/>
            <a:chExt cx="1739160" cy="1588680"/>
          </a:xfrm>
        </p:grpSpPr>
        <p:sp>
          <p:nvSpPr>
            <p:cNvPr id="130" name=""/>
            <p:cNvSpPr/>
            <p:nvPr/>
          </p:nvSpPr>
          <p:spPr>
            <a:xfrm flipH="1" rot="4135800">
              <a:off x="4995360" y="3350880"/>
              <a:ext cx="75960" cy="218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 rot="4135800">
              <a:off x="4783680" y="3403800"/>
              <a:ext cx="228240" cy="2181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 flipV="1">
              <a:off x="3409920" y="3391920"/>
              <a:ext cx="1372680" cy="12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409920" y="3392280"/>
              <a:ext cx="141336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4012200" y="3587400"/>
              <a:ext cx="797760" cy="13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4012200" y="3632400"/>
              <a:ext cx="893160" cy="132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313200" y="227880"/>
            <a:ext cx="8546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D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A MEDIATRICE D ’UN SEG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2400" y="5408640"/>
            <a:ext cx="494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Mettre la pointe du compas sur A et </a:t>
            </a:r>
            <a:br>
              <a:rPr sz="2400"/>
            </a:b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tracer un demi-cerc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Mediatrice10" descr=""/>
          <p:cNvPicPr/>
          <p:nvPr/>
        </p:nvPicPr>
        <p:blipFill>
          <a:blip r:embed="rId1"/>
          <a:stretch/>
        </p:blipFill>
        <p:spPr>
          <a:xfrm>
            <a:off x="2681280" y="1643040"/>
            <a:ext cx="3781440" cy="3571920"/>
          </a:xfrm>
          <a:prstGeom prst="rect">
            <a:avLst/>
          </a:prstGeom>
          <a:ln w="0">
            <a:noFill/>
          </a:ln>
        </p:spPr>
      </p:pic>
      <p:grpSp>
        <p:nvGrpSpPr>
          <p:cNvPr id="139" name=""/>
          <p:cNvGrpSpPr/>
          <p:nvPr/>
        </p:nvGrpSpPr>
        <p:grpSpPr>
          <a:xfrm>
            <a:off x="3458160" y="2816280"/>
            <a:ext cx="1667520" cy="1844640"/>
            <a:chOff x="3458160" y="2816280"/>
            <a:chExt cx="1667520" cy="1844640"/>
          </a:xfrm>
        </p:grpSpPr>
        <p:sp>
          <p:nvSpPr>
            <p:cNvPr id="140" name=""/>
            <p:cNvSpPr/>
            <p:nvPr/>
          </p:nvSpPr>
          <p:spPr>
            <a:xfrm flipH="1" rot="3006600">
              <a:off x="4978800" y="2806200"/>
              <a:ext cx="76320" cy="218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 rot="3006600">
              <a:off x="4791600" y="2899440"/>
              <a:ext cx="228600" cy="2181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3458160" y="3049560"/>
              <a:ext cx="1339560" cy="32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3458160" y="2944440"/>
              <a:ext cx="1346760" cy="43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4533480" y="3107880"/>
              <a:ext cx="313200" cy="155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4533480" y="3120120"/>
              <a:ext cx="417960" cy="154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313200" y="227880"/>
            <a:ext cx="8546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D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A MEDIATRICE D ’UN SEG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Mediatrice09" descr=""/>
          <p:cNvPicPr/>
          <p:nvPr/>
        </p:nvPicPr>
        <p:blipFill>
          <a:blip r:embed="rId1"/>
          <a:stretch/>
        </p:blipFill>
        <p:spPr>
          <a:xfrm>
            <a:off x="2681280" y="1643040"/>
            <a:ext cx="3781440" cy="3571920"/>
          </a:xfrm>
          <a:prstGeom prst="rect">
            <a:avLst/>
          </a:prstGeom>
          <a:ln w="0">
            <a:noFill/>
          </a:ln>
        </p:spPr>
      </p:pic>
      <p:grpSp>
        <p:nvGrpSpPr>
          <p:cNvPr id="148" name=""/>
          <p:cNvGrpSpPr/>
          <p:nvPr/>
        </p:nvGrpSpPr>
        <p:grpSpPr>
          <a:xfrm>
            <a:off x="3430800" y="2370960"/>
            <a:ext cx="1459800" cy="1922400"/>
            <a:chOff x="3430800" y="2370960"/>
            <a:chExt cx="1459800" cy="1922400"/>
          </a:xfrm>
        </p:grpSpPr>
        <p:sp>
          <p:nvSpPr>
            <p:cNvPr id="149" name=""/>
            <p:cNvSpPr/>
            <p:nvPr/>
          </p:nvSpPr>
          <p:spPr>
            <a:xfrm flipH="1" rot="2029200">
              <a:off x="4760280" y="2373480"/>
              <a:ext cx="75960" cy="218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 rot="2029200">
              <a:off x="4603680" y="2494080"/>
              <a:ext cx="228240" cy="2181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3430800" y="2672640"/>
              <a:ext cx="1194120" cy="68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3431160" y="2570040"/>
              <a:ext cx="1171440" cy="79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 flipV="1">
              <a:off x="4688280" y="2715120"/>
              <a:ext cx="134640" cy="157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 flipV="1">
              <a:off x="4792320" y="2697120"/>
              <a:ext cx="30600" cy="159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313200" y="227880"/>
            <a:ext cx="8546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D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A MEDIATRICE D ’UN SEG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Mediatrice08" descr=""/>
          <p:cNvPicPr/>
          <p:nvPr/>
        </p:nvPicPr>
        <p:blipFill>
          <a:blip r:embed="rId1"/>
          <a:stretch/>
        </p:blipFill>
        <p:spPr>
          <a:xfrm>
            <a:off x="2681280" y="1643040"/>
            <a:ext cx="3781440" cy="3571920"/>
          </a:xfrm>
          <a:prstGeom prst="rect">
            <a:avLst/>
          </a:prstGeom>
          <a:ln w="0">
            <a:noFill/>
          </a:ln>
        </p:spPr>
      </p:pic>
      <p:grpSp>
        <p:nvGrpSpPr>
          <p:cNvPr id="157" name=""/>
          <p:cNvGrpSpPr/>
          <p:nvPr/>
        </p:nvGrpSpPr>
        <p:grpSpPr>
          <a:xfrm>
            <a:off x="3428280" y="2104560"/>
            <a:ext cx="1567440" cy="1874160"/>
            <a:chOff x="3428280" y="2104560"/>
            <a:chExt cx="1567440" cy="1874160"/>
          </a:xfrm>
        </p:grpSpPr>
        <p:sp>
          <p:nvSpPr>
            <p:cNvPr id="158" name=""/>
            <p:cNvSpPr/>
            <p:nvPr/>
          </p:nvSpPr>
          <p:spPr>
            <a:xfrm flipH="1" rot="1245600">
              <a:off x="4523400" y="2110680"/>
              <a:ext cx="76320" cy="218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rot="1245600">
              <a:off x="4395600" y="2246760"/>
              <a:ext cx="228600" cy="2181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3428280" y="2444400"/>
              <a:ext cx="1008000" cy="93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3428280" y="2349720"/>
              <a:ext cx="962640" cy="103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4507560" y="2471400"/>
              <a:ext cx="488160" cy="150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 flipV="1">
              <a:off x="4604760" y="2430720"/>
              <a:ext cx="390960" cy="15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313200" y="227880"/>
            <a:ext cx="8546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D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A MEDIATRICE D ’UN SEG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Mediatrice07" descr=""/>
          <p:cNvPicPr/>
          <p:nvPr/>
        </p:nvPicPr>
        <p:blipFill>
          <a:blip r:embed="rId1"/>
          <a:stretch/>
        </p:blipFill>
        <p:spPr>
          <a:xfrm>
            <a:off x="2681280" y="1643040"/>
            <a:ext cx="3781440" cy="3571920"/>
          </a:xfrm>
          <a:prstGeom prst="rect">
            <a:avLst/>
          </a:prstGeom>
          <a:ln w="0">
            <a:noFill/>
          </a:ln>
        </p:spPr>
      </p:pic>
      <p:grpSp>
        <p:nvGrpSpPr>
          <p:cNvPr id="166" name=""/>
          <p:cNvGrpSpPr/>
          <p:nvPr/>
        </p:nvGrpSpPr>
        <p:grpSpPr>
          <a:xfrm>
            <a:off x="3454920" y="1877400"/>
            <a:ext cx="1650960" cy="1760760"/>
            <a:chOff x="3454920" y="1877400"/>
            <a:chExt cx="1650960" cy="1760760"/>
          </a:xfrm>
        </p:grpSpPr>
        <p:sp>
          <p:nvSpPr>
            <p:cNvPr id="167" name=""/>
            <p:cNvSpPr/>
            <p:nvPr/>
          </p:nvSpPr>
          <p:spPr>
            <a:xfrm flipH="1" rot="599400">
              <a:off x="4312440" y="1882080"/>
              <a:ext cx="76320" cy="218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599400">
              <a:off x="4212000" y="2025720"/>
              <a:ext cx="228600" cy="2181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3454920" y="2235600"/>
              <a:ext cx="814680" cy="111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3454920" y="2151000"/>
              <a:ext cx="752400" cy="119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 flipV="1">
              <a:off x="4344840" y="2248920"/>
              <a:ext cx="761040" cy="138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flipV="1">
              <a:off x="4432680" y="2190600"/>
              <a:ext cx="67320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313200" y="227880"/>
            <a:ext cx="8546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D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A MEDIATRICE D ’UN SEG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Mediatrice07" descr=""/>
          <p:cNvPicPr/>
          <p:nvPr/>
        </p:nvPicPr>
        <p:blipFill>
          <a:blip r:embed="rId1"/>
          <a:stretch/>
        </p:blipFill>
        <p:spPr>
          <a:xfrm>
            <a:off x="2681280" y="1643040"/>
            <a:ext cx="3781440" cy="3571920"/>
          </a:xfrm>
          <a:prstGeom prst="rect">
            <a:avLst/>
          </a:prstGeom>
          <a:ln w="0">
            <a:noFill/>
          </a:ln>
        </p:spPr>
      </p:pic>
      <p:grpSp>
        <p:nvGrpSpPr>
          <p:cNvPr id="175" name=""/>
          <p:cNvGrpSpPr/>
          <p:nvPr/>
        </p:nvGrpSpPr>
        <p:grpSpPr>
          <a:xfrm>
            <a:off x="3454560" y="1877400"/>
            <a:ext cx="1650600" cy="1761120"/>
            <a:chOff x="3454560" y="1877400"/>
            <a:chExt cx="1650600" cy="1761120"/>
          </a:xfrm>
        </p:grpSpPr>
        <p:sp>
          <p:nvSpPr>
            <p:cNvPr id="176" name=""/>
            <p:cNvSpPr/>
            <p:nvPr/>
          </p:nvSpPr>
          <p:spPr>
            <a:xfrm flipH="1" rot="601200">
              <a:off x="4312800" y="1882080"/>
              <a:ext cx="76320" cy="218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 rot="601200">
              <a:off x="4212000" y="2025360"/>
              <a:ext cx="228600" cy="2181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3454560" y="2235600"/>
              <a:ext cx="815400" cy="111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3454560" y="2150640"/>
              <a:ext cx="753120" cy="119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 flipV="1">
              <a:off x="4345200" y="2248920"/>
              <a:ext cx="759960" cy="138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 flipV="1">
              <a:off x="4433040" y="2190600"/>
              <a:ext cx="67212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313200" y="227880"/>
            <a:ext cx="8546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D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A MEDIATRICE D ’UN SEG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Mediatrice06" descr=""/>
          <p:cNvPicPr/>
          <p:nvPr/>
        </p:nvPicPr>
        <p:blipFill>
          <a:blip r:embed="rId1"/>
          <a:stretch/>
        </p:blipFill>
        <p:spPr>
          <a:xfrm>
            <a:off x="2681280" y="1643040"/>
            <a:ext cx="3781440" cy="3571920"/>
          </a:xfrm>
          <a:prstGeom prst="rect">
            <a:avLst/>
          </a:prstGeom>
          <a:ln w="0">
            <a:noFill/>
          </a:ln>
        </p:spPr>
      </p:pic>
      <p:grpSp>
        <p:nvGrpSpPr>
          <p:cNvPr id="184" name=""/>
          <p:cNvGrpSpPr/>
          <p:nvPr/>
        </p:nvGrpSpPr>
        <p:grpSpPr>
          <a:xfrm>
            <a:off x="3419640" y="1712160"/>
            <a:ext cx="1653120" cy="1690920"/>
            <a:chOff x="3419640" y="1712160"/>
            <a:chExt cx="1653120" cy="1690920"/>
          </a:xfrm>
        </p:grpSpPr>
        <p:sp>
          <p:nvSpPr>
            <p:cNvPr id="185" name=""/>
            <p:cNvSpPr/>
            <p:nvPr/>
          </p:nvSpPr>
          <p:spPr>
            <a:xfrm flipH="1" rot="21033600">
              <a:off x="3775680" y="1716840"/>
              <a:ext cx="75960" cy="217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 rot="21033600">
              <a:off x="3723480" y="1860120"/>
              <a:ext cx="228240" cy="2181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419640" y="2083680"/>
              <a:ext cx="398160" cy="131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3420000" y="2024280"/>
              <a:ext cx="311400" cy="137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 flipV="1">
              <a:off x="3893040" y="2071080"/>
              <a:ext cx="1179720" cy="105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3956400" y="1986840"/>
              <a:ext cx="1116360" cy="114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313200" y="227880"/>
            <a:ext cx="8546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D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A MEDIATRICE D ’UN SEG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Mediatrice05" descr=""/>
          <p:cNvPicPr/>
          <p:nvPr/>
        </p:nvPicPr>
        <p:blipFill>
          <a:blip r:embed="rId1"/>
          <a:stretch/>
        </p:blipFill>
        <p:spPr>
          <a:xfrm>
            <a:off x="2681280" y="1643040"/>
            <a:ext cx="3781440" cy="3571920"/>
          </a:xfrm>
          <a:prstGeom prst="rect">
            <a:avLst/>
          </a:prstGeom>
          <a:ln w="0">
            <a:noFill/>
          </a:ln>
        </p:spPr>
      </p:pic>
      <p:grpSp>
        <p:nvGrpSpPr>
          <p:cNvPr id="193" name=""/>
          <p:cNvGrpSpPr/>
          <p:nvPr/>
        </p:nvGrpSpPr>
        <p:grpSpPr>
          <a:xfrm>
            <a:off x="3349440" y="1647720"/>
            <a:ext cx="1621440" cy="1740600"/>
            <a:chOff x="3349440" y="1647720"/>
            <a:chExt cx="1621440" cy="1740600"/>
          </a:xfrm>
        </p:grpSpPr>
        <p:sp>
          <p:nvSpPr>
            <p:cNvPr id="194" name=""/>
            <p:cNvSpPr/>
            <p:nvPr/>
          </p:nvSpPr>
          <p:spPr>
            <a:xfrm flipH="1" rot="20213400">
              <a:off x="3402000" y="1653840"/>
              <a:ext cx="75960" cy="218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 rot="20213400">
              <a:off x="3382560" y="1787760"/>
              <a:ext cx="228240" cy="2181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3429720" y="2012040"/>
              <a:ext cx="74880" cy="137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 flipV="1">
              <a:off x="3406680" y="1974960"/>
              <a:ext cx="23400" cy="141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 flipV="1">
              <a:off x="3574800" y="1982160"/>
              <a:ext cx="1396080" cy="74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 flipV="1">
              <a:off x="3616560" y="1885320"/>
              <a:ext cx="1354320" cy="84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313200" y="227880"/>
            <a:ext cx="8546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D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A MEDIATRICE D ’UN SEG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Mediatrice04" descr=""/>
          <p:cNvPicPr/>
          <p:nvPr/>
        </p:nvPicPr>
        <p:blipFill>
          <a:blip r:embed="rId1"/>
          <a:stretch/>
        </p:blipFill>
        <p:spPr>
          <a:xfrm>
            <a:off x="2681280" y="1643040"/>
            <a:ext cx="3781440" cy="3571920"/>
          </a:xfrm>
          <a:prstGeom prst="rect">
            <a:avLst/>
          </a:prstGeom>
          <a:ln w="0">
            <a:noFill/>
          </a:ln>
        </p:spPr>
      </p:pic>
      <p:grpSp>
        <p:nvGrpSpPr>
          <p:cNvPr id="202" name=""/>
          <p:cNvGrpSpPr/>
          <p:nvPr/>
        </p:nvGrpSpPr>
        <p:grpSpPr>
          <a:xfrm>
            <a:off x="2909880" y="1710000"/>
            <a:ext cx="1824120" cy="1684080"/>
            <a:chOff x="2909880" y="1710000"/>
            <a:chExt cx="1824120" cy="1684080"/>
          </a:xfrm>
        </p:grpSpPr>
        <p:sp>
          <p:nvSpPr>
            <p:cNvPr id="203" name=""/>
            <p:cNvSpPr/>
            <p:nvPr/>
          </p:nvSpPr>
          <p:spPr>
            <a:xfrm flipH="1" rot="19328400">
              <a:off x="2968920" y="1710360"/>
              <a:ext cx="76320" cy="218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 rot="19328400">
              <a:off x="2981520" y="1825200"/>
              <a:ext cx="228600" cy="2178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132720" y="2043720"/>
              <a:ext cx="277200" cy="135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 flipV="1">
              <a:off x="3028320" y="2032920"/>
              <a:ext cx="381600" cy="136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 flipV="1">
              <a:off x="3193200" y="1996920"/>
              <a:ext cx="1540800" cy="36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 flipV="1">
              <a:off x="3208680" y="1892880"/>
              <a:ext cx="1525320" cy="47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313200" y="227880"/>
            <a:ext cx="8546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D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A MEDIATRICE D ’UN SEG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Mediatrice20" descr=""/>
          <p:cNvPicPr/>
          <p:nvPr/>
        </p:nvPicPr>
        <p:blipFill>
          <a:blip r:embed="rId1"/>
          <a:stretch/>
        </p:blipFill>
        <p:spPr>
          <a:xfrm>
            <a:off x="2681280" y="1643040"/>
            <a:ext cx="3781440" cy="3571920"/>
          </a:xfrm>
          <a:prstGeom prst="rect">
            <a:avLst/>
          </a:prstGeom>
          <a:ln w="0">
            <a:noFill/>
          </a:ln>
        </p:spPr>
      </p:pic>
      <p:grpSp>
        <p:nvGrpSpPr>
          <p:cNvPr id="46" name=""/>
          <p:cNvGrpSpPr/>
          <p:nvPr/>
        </p:nvGrpSpPr>
        <p:grpSpPr>
          <a:xfrm>
            <a:off x="4038480" y="1828800"/>
            <a:ext cx="1676520" cy="1599840"/>
            <a:chOff x="4038480" y="1828800"/>
            <a:chExt cx="1676520" cy="1599840"/>
          </a:xfrm>
        </p:grpSpPr>
        <p:sp>
          <p:nvSpPr>
            <p:cNvPr id="47" name=""/>
            <p:cNvSpPr/>
            <p:nvPr/>
          </p:nvSpPr>
          <p:spPr>
            <a:xfrm>
              <a:off x="5029200" y="1828800"/>
              <a:ext cx="76320" cy="218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952880" y="1974240"/>
              <a:ext cx="228600" cy="2181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05520" y="2192400"/>
              <a:ext cx="609480" cy="123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 flipV="1">
              <a:off x="5181480" y="2119680"/>
              <a:ext cx="533520" cy="130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4038480" y="2192400"/>
              <a:ext cx="990720" cy="123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4038480" y="2119680"/>
              <a:ext cx="914400" cy="130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313200" y="227880"/>
            <a:ext cx="8546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D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A MEDIATRICE D ’UN SEG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71600" y="5408640"/>
            <a:ext cx="673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Prendre un écartement de compas plus grand que </a:t>
            </a:r>
            <a:br>
              <a:rPr sz="2400"/>
            </a:b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la moitié de la longueur du seg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Mediatrice03" descr=""/>
          <p:cNvPicPr/>
          <p:nvPr/>
        </p:nvPicPr>
        <p:blipFill>
          <a:blip r:embed="rId1"/>
          <a:stretch/>
        </p:blipFill>
        <p:spPr>
          <a:xfrm>
            <a:off x="2681280" y="1643040"/>
            <a:ext cx="3781440" cy="3571920"/>
          </a:xfrm>
          <a:prstGeom prst="rect">
            <a:avLst/>
          </a:prstGeom>
          <a:ln w="0">
            <a:noFill/>
          </a:ln>
        </p:spPr>
      </p:pic>
      <p:grpSp>
        <p:nvGrpSpPr>
          <p:cNvPr id="211" name=""/>
          <p:cNvGrpSpPr/>
          <p:nvPr/>
        </p:nvGrpSpPr>
        <p:grpSpPr>
          <a:xfrm>
            <a:off x="2640240" y="1793160"/>
            <a:ext cx="1905120" cy="1574640"/>
            <a:chOff x="2640240" y="1793160"/>
            <a:chExt cx="1905120" cy="1574640"/>
          </a:xfrm>
        </p:grpSpPr>
        <p:sp>
          <p:nvSpPr>
            <p:cNvPr id="212" name=""/>
            <p:cNvSpPr/>
            <p:nvPr/>
          </p:nvSpPr>
          <p:spPr>
            <a:xfrm flipH="1" rot="18694800">
              <a:off x="2708640" y="1784880"/>
              <a:ext cx="76680" cy="218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 rot="18694800">
              <a:off x="2741760" y="1881000"/>
              <a:ext cx="228600" cy="2181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912400" y="2091240"/>
              <a:ext cx="520200" cy="127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 flipV="1">
              <a:off x="2807640" y="2099880"/>
              <a:ext cx="624960" cy="126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 flipV="1">
              <a:off x="2963160" y="2034360"/>
              <a:ext cx="1582200" cy="7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 flipV="1">
              <a:off x="2959560" y="1928880"/>
              <a:ext cx="1585800" cy="18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313200" y="227880"/>
            <a:ext cx="8546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D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A MEDIATRICE D ’UN SEG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Mediatrice02" descr=""/>
          <p:cNvPicPr/>
          <p:nvPr/>
        </p:nvPicPr>
        <p:blipFill>
          <a:blip r:embed="rId1"/>
          <a:stretch/>
        </p:blipFill>
        <p:spPr>
          <a:xfrm>
            <a:off x="2681280" y="1643040"/>
            <a:ext cx="3781440" cy="3571920"/>
          </a:xfrm>
          <a:prstGeom prst="rect">
            <a:avLst/>
          </a:prstGeom>
          <a:ln w="0">
            <a:noFill/>
          </a:ln>
        </p:spPr>
      </p:pic>
      <p:grpSp>
        <p:nvGrpSpPr>
          <p:cNvPr id="220" name=""/>
          <p:cNvGrpSpPr/>
          <p:nvPr/>
        </p:nvGrpSpPr>
        <p:grpSpPr>
          <a:xfrm>
            <a:off x="2445480" y="1893600"/>
            <a:ext cx="1922760" cy="1457280"/>
            <a:chOff x="2445480" y="1893600"/>
            <a:chExt cx="1922760" cy="1457280"/>
          </a:xfrm>
        </p:grpSpPr>
        <p:sp>
          <p:nvSpPr>
            <p:cNvPr id="221" name=""/>
            <p:cNvSpPr/>
            <p:nvPr/>
          </p:nvSpPr>
          <p:spPr>
            <a:xfrm flipH="1" rot="18217800">
              <a:off x="2519280" y="1876320"/>
              <a:ext cx="76320" cy="217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rot="18217800">
              <a:off x="2563920" y="1957320"/>
              <a:ext cx="228600" cy="2181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748240" y="2158560"/>
              <a:ext cx="691560" cy="119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 flipV="1">
              <a:off x="2645640" y="2181600"/>
              <a:ext cx="794160" cy="116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2790360" y="1954800"/>
              <a:ext cx="1577880" cy="14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2772000" y="1954800"/>
              <a:ext cx="159624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313200" y="227880"/>
            <a:ext cx="8546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D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A MEDIATRICE D ’UN SEG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Mediatrice01" descr=""/>
          <p:cNvPicPr/>
          <p:nvPr/>
        </p:nvPicPr>
        <p:blipFill>
          <a:blip r:embed="rId1"/>
          <a:stretch/>
        </p:blipFill>
        <p:spPr>
          <a:xfrm>
            <a:off x="2681280" y="1643040"/>
            <a:ext cx="3781440" cy="35719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4572000" y="1828800"/>
            <a:ext cx="0" cy="327672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13200" y="227880"/>
            <a:ext cx="8546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D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A MEDIATRICE D ’UN SEG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3000" y="5713920"/>
            <a:ext cx="80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Times New Roman"/>
              </a:rPr>
              <a:t>Maintenant il faut être capable de retenir cette constru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363760" y="1979280"/>
            <a:ext cx="4524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U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IAPORAM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Mediatrice19" descr=""/>
          <p:cNvPicPr/>
          <p:nvPr/>
        </p:nvPicPr>
        <p:blipFill>
          <a:blip r:embed="rId1"/>
          <a:stretch/>
        </p:blipFill>
        <p:spPr>
          <a:xfrm>
            <a:off x="2681280" y="1643040"/>
            <a:ext cx="3781440" cy="357192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3950640" y="3255840"/>
            <a:ext cx="1739520" cy="1652400"/>
            <a:chOff x="3950640" y="3255840"/>
            <a:chExt cx="1739520" cy="1652400"/>
          </a:xfrm>
        </p:grpSpPr>
        <p:sp>
          <p:nvSpPr>
            <p:cNvPr id="57" name=""/>
            <p:cNvSpPr/>
            <p:nvPr/>
          </p:nvSpPr>
          <p:spPr>
            <a:xfrm rot="17708400">
              <a:off x="4027320" y="3234240"/>
              <a:ext cx="76320" cy="218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7708400">
              <a:off x="4082400" y="3296520"/>
              <a:ext cx="228600" cy="2181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4312080" y="3390840"/>
              <a:ext cx="1378080" cy="2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4278600" y="3317760"/>
              <a:ext cx="141156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 flipV="1">
              <a:off x="4279680" y="3486240"/>
              <a:ext cx="698400" cy="142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flipV="1">
              <a:off x="4181400" y="3524400"/>
              <a:ext cx="796680" cy="138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313200" y="227880"/>
            <a:ext cx="8546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D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A MEDIATRICE D ’UN SEG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56520" y="5408640"/>
            <a:ext cx="579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Mettre la pointe du compas sur B et tracer </a:t>
            </a:r>
            <a:br>
              <a:rPr sz="2400"/>
            </a:b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un demi-cerc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Mediatrice18" descr=""/>
          <p:cNvPicPr/>
          <p:nvPr/>
        </p:nvPicPr>
        <p:blipFill>
          <a:blip r:embed="rId1"/>
          <a:stretch/>
        </p:blipFill>
        <p:spPr>
          <a:xfrm>
            <a:off x="2681280" y="1643040"/>
            <a:ext cx="3781440" cy="3571920"/>
          </a:xfrm>
          <a:prstGeom prst="rect">
            <a:avLst/>
          </a:prstGeom>
          <a:ln w="0">
            <a:noFill/>
          </a:ln>
        </p:spPr>
      </p:pic>
      <p:grpSp>
        <p:nvGrpSpPr>
          <p:cNvPr id="66" name=""/>
          <p:cNvGrpSpPr/>
          <p:nvPr/>
        </p:nvGrpSpPr>
        <p:grpSpPr>
          <a:xfrm>
            <a:off x="4031280" y="2806560"/>
            <a:ext cx="1656360" cy="1855800"/>
            <a:chOff x="4031280" y="2806560"/>
            <a:chExt cx="1656360" cy="1855800"/>
          </a:xfrm>
        </p:grpSpPr>
        <p:sp>
          <p:nvSpPr>
            <p:cNvPr id="67" name=""/>
            <p:cNvSpPr/>
            <p:nvPr/>
          </p:nvSpPr>
          <p:spPr>
            <a:xfrm rot="18664800">
              <a:off x="4100400" y="2797920"/>
              <a:ext cx="76320" cy="218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rot="18664800">
              <a:off x="4133520" y="2893680"/>
              <a:ext cx="228600" cy="2181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355280" y="3045600"/>
              <a:ext cx="1332360" cy="35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flipV="1">
              <a:off x="4350600" y="2940480"/>
              <a:ext cx="1337040" cy="45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flipV="1">
              <a:off x="4305240" y="3103200"/>
              <a:ext cx="280800" cy="155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 flipV="1">
              <a:off x="4200120" y="3112920"/>
              <a:ext cx="385920" cy="154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313200" y="227880"/>
            <a:ext cx="8546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D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A MEDIATRICE D ’UN SEG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Mediatrice17" descr=""/>
          <p:cNvPicPr/>
          <p:nvPr/>
        </p:nvPicPr>
        <p:blipFill>
          <a:blip r:embed="rId1"/>
          <a:stretch/>
        </p:blipFill>
        <p:spPr>
          <a:xfrm>
            <a:off x="2681280" y="1643040"/>
            <a:ext cx="3781440" cy="3571920"/>
          </a:xfrm>
          <a:prstGeom prst="rect">
            <a:avLst/>
          </a:prstGeom>
          <a:ln w="0">
            <a:noFill/>
          </a:ln>
        </p:spPr>
      </p:pic>
      <p:grpSp>
        <p:nvGrpSpPr>
          <p:cNvPr id="75" name=""/>
          <p:cNvGrpSpPr/>
          <p:nvPr/>
        </p:nvGrpSpPr>
        <p:grpSpPr>
          <a:xfrm>
            <a:off x="4211280" y="2273040"/>
            <a:ext cx="1477080" cy="1913760"/>
            <a:chOff x="4211280" y="2273040"/>
            <a:chExt cx="1477080" cy="1913760"/>
          </a:xfrm>
        </p:grpSpPr>
        <p:sp>
          <p:nvSpPr>
            <p:cNvPr id="76" name=""/>
            <p:cNvSpPr/>
            <p:nvPr/>
          </p:nvSpPr>
          <p:spPr>
            <a:xfrm rot="19908600">
              <a:off x="4375080" y="2278080"/>
              <a:ext cx="75960" cy="218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9908600">
              <a:off x="4367520" y="2406240"/>
              <a:ext cx="228240" cy="2181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567320" y="2593440"/>
              <a:ext cx="1121040" cy="80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flipV="1">
              <a:off x="4599720" y="2493720"/>
              <a:ext cx="1088280" cy="90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4211280" y="2629440"/>
              <a:ext cx="288720" cy="155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4211280" y="2601360"/>
              <a:ext cx="187200" cy="15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313200" y="227880"/>
            <a:ext cx="8546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D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A MEDIATRICE D ’UN SEG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Mediatrice16" descr=""/>
          <p:cNvPicPr/>
          <p:nvPr/>
        </p:nvPicPr>
        <p:blipFill>
          <a:blip r:embed="rId1"/>
          <a:stretch/>
        </p:blipFill>
        <p:spPr>
          <a:xfrm>
            <a:off x="2681280" y="1643040"/>
            <a:ext cx="3781440" cy="3571920"/>
          </a:xfrm>
          <a:prstGeom prst="rect">
            <a:avLst/>
          </a:prstGeom>
          <a:ln w="0">
            <a:noFill/>
          </a:ln>
        </p:spPr>
      </p:pic>
      <p:grpSp>
        <p:nvGrpSpPr>
          <p:cNvPr id="84" name=""/>
          <p:cNvGrpSpPr/>
          <p:nvPr/>
        </p:nvGrpSpPr>
        <p:grpSpPr>
          <a:xfrm>
            <a:off x="4053600" y="1884960"/>
            <a:ext cx="1666080" cy="1705680"/>
            <a:chOff x="4053600" y="1884960"/>
            <a:chExt cx="1666080" cy="1705680"/>
          </a:xfrm>
        </p:grpSpPr>
        <p:sp>
          <p:nvSpPr>
            <p:cNvPr id="85" name=""/>
            <p:cNvSpPr/>
            <p:nvPr/>
          </p:nvSpPr>
          <p:spPr>
            <a:xfrm rot="21228600">
              <a:off x="4877280" y="1888200"/>
              <a:ext cx="75960" cy="218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21228600">
              <a:off x="4816440" y="2033280"/>
              <a:ext cx="228240" cy="2181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980960" y="2246760"/>
              <a:ext cx="738720" cy="116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flipV="1">
              <a:off x="5048280" y="2166120"/>
              <a:ext cx="671040" cy="124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4053600" y="2254680"/>
              <a:ext cx="851400" cy="133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4053600" y="2190600"/>
              <a:ext cx="767520" cy="140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313200" y="227880"/>
            <a:ext cx="8546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D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A MEDIATRICE D ’UN SEG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Mediatrice15" descr=""/>
          <p:cNvPicPr/>
          <p:nvPr/>
        </p:nvPicPr>
        <p:blipFill>
          <a:blip r:embed="rId1"/>
          <a:stretch/>
        </p:blipFill>
        <p:spPr>
          <a:xfrm>
            <a:off x="2681280" y="1643040"/>
            <a:ext cx="3781440" cy="3571920"/>
          </a:xfrm>
          <a:prstGeom prst="rect">
            <a:avLst/>
          </a:prstGeom>
          <a:ln w="0">
            <a:noFill/>
          </a:ln>
        </p:spPr>
      </p:pic>
      <p:grpSp>
        <p:nvGrpSpPr>
          <p:cNvPr id="93" name=""/>
          <p:cNvGrpSpPr/>
          <p:nvPr/>
        </p:nvGrpSpPr>
        <p:grpSpPr>
          <a:xfrm>
            <a:off x="4037400" y="1696320"/>
            <a:ext cx="1667880" cy="1661400"/>
            <a:chOff x="4037400" y="1696320"/>
            <a:chExt cx="1667880" cy="1661400"/>
          </a:xfrm>
        </p:grpSpPr>
        <p:sp>
          <p:nvSpPr>
            <p:cNvPr id="94" name=""/>
            <p:cNvSpPr/>
            <p:nvPr/>
          </p:nvSpPr>
          <p:spPr>
            <a:xfrm rot="351600">
              <a:off x="5175000" y="1699560"/>
              <a:ext cx="76320" cy="218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rot="351600">
              <a:off x="5083920" y="1843920"/>
              <a:ext cx="228600" cy="2181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225040" y="2065680"/>
              <a:ext cx="480240" cy="129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flipV="1">
              <a:off x="5308200" y="2001240"/>
              <a:ext cx="397080" cy="13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4037400" y="2058120"/>
              <a:ext cx="1112040" cy="11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4037400" y="1977840"/>
              <a:ext cx="1043280" cy="120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313200" y="227880"/>
            <a:ext cx="8546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D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A MEDIATRICE D ’UN SEG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Mediatrice14" descr=""/>
          <p:cNvPicPr/>
          <p:nvPr/>
        </p:nvPicPr>
        <p:blipFill>
          <a:blip r:embed="rId1"/>
          <a:stretch/>
        </p:blipFill>
        <p:spPr>
          <a:xfrm>
            <a:off x="2681280" y="1643040"/>
            <a:ext cx="3781440" cy="3571920"/>
          </a:xfrm>
          <a:prstGeom prst="rect">
            <a:avLst/>
          </a:prstGeom>
          <a:ln w="0">
            <a:noFill/>
          </a:ln>
        </p:spPr>
      </p:pic>
      <p:grpSp>
        <p:nvGrpSpPr>
          <p:cNvPr id="102" name=""/>
          <p:cNvGrpSpPr/>
          <p:nvPr/>
        </p:nvGrpSpPr>
        <p:grpSpPr>
          <a:xfrm>
            <a:off x="4219920" y="1610280"/>
            <a:ext cx="1688400" cy="1735560"/>
            <a:chOff x="4219920" y="1610280"/>
            <a:chExt cx="1688400" cy="1735560"/>
          </a:xfrm>
        </p:grpSpPr>
        <p:sp>
          <p:nvSpPr>
            <p:cNvPr id="103" name=""/>
            <p:cNvSpPr/>
            <p:nvPr/>
          </p:nvSpPr>
          <p:spPr>
            <a:xfrm rot="1660800">
              <a:off x="5785560" y="1615320"/>
              <a:ext cx="76320" cy="218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660800">
              <a:off x="5641200" y="1744200"/>
              <a:ext cx="228600" cy="2181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5704560" y="1967760"/>
              <a:ext cx="34560" cy="137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5704560" y="1938600"/>
              <a:ext cx="135720" cy="140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4219920" y="1932480"/>
              <a:ext cx="1451520" cy="63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4219920" y="1832400"/>
              <a:ext cx="1418040" cy="73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313200" y="227880"/>
            <a:ext cx="8546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D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A MEDIATRICE D ’UN SEG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Mediatrice13" descr=""/>
          <p:cNvPicPr/>
          <p:nvPr/>
        </p:nvPicPr>
        <p:blipFill>
          <a:blip r:embed="rId1"/>
          <a:stretch/>
        </p:blipFill>
        <p:spPr>
          <a:xfrm>
            <a:off x="2681280" y="1643040"/>
            <a:ext cx="3781440" cy="3571920"/>
          </a:xfrm>
          <a:prstGeom prst="rect">
            <a:avLst/>
          </a:prstGeom>
          <a:ln w="0">
            <a:noFill/>
          </a:ln>
        </p:spPr>
      </p:pic>
      <p:grpSp>
        <p:nvGrpSpPr>
          <p:cNvPr id="111" name=""/>
          <p:cNvGrpSpPr/>
          <p:nvPr/>
        </p:nvGrpSpPr>
        <p:grpSpPr>
          <a:xfrm>
            <a:off x="4480200" y="1780200"/>
            <a:ext cx="1879920" cy="1625760"/>
            <a:chOff x="4480200" y="1780200"/>
            <a:chExt cx="1879920" cy="1625760"/>
          </a:xfrm>
        </p:grpSpPr>
        <p:sp>
          <p:nvSpPr>
            <p:cNvPr id="112" name=""/>
            <p:cNvSpPr/>
            <p:nvPr/>
          </p:nvSpPr>
          <p:spPr>
            <a:xfrm rot="2650200">
              <a:off x="6218280" y="1775880"/>
              <a:ext cx="76320" cy="218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2650200">
              <a:off x="6041160" y="1879920"/>
              <a:ext cx="228600" cy="2181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5682960" y="2094480"/>
              <a:ext cx="424080" cy="131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5682960" y="2095200"/>
              <a:ext cx="529200" cy="131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4480200" y="2041200"/>
              <a:ext cx="1572120" cy="19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4480200" y="1935720"/>
              <a:ext cx="1567800" cy="30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313200" y="227880"/>
            <a:ext cx="8546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D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A MEDIATRICE D ’UN SEG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8T10:26:41Z</dcterms:created>
  <dc:creator>Vincent</dc:creator>
  <dc:description/>
  <dc:language>en-US</dc:language>
  <cp:lastModifiedBy>OBATON Vincent</cp:lastModifiedBy>
  <dcterms:modified xsi:type="dcterms:W3CDTF">2001-03-19T16:25:23Z</dcterms:modified>
  <cp:revision>16</cp:revision>
  <dc:subject/>
  <dc:title>PREMIERE ETAPE</dc:title>
</cp:coreProperties>
</file>