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56.png" ContentType="image/png"/>
  <Override PartName="/ppt/media/image1.wmf" ContentType="image/x-wmf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58.png" ContentType="image/png"/>
  <Override PartName="/ppt/media/image21.png" ContentType="image/png"/>
  <Override PartName="/ppt/media/image60.png" ContentType="image/png"/>
  <Override PartName="/ppt/media/image23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AD29-5FDB-47A1-880B-DCA3AD4B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5A2E-ADD6-47C2-BE59-775A106C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CC3B-0A21-49F7-8D51-AB6932C51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9534-D76B-4A59-9ED4-E91FD2B2C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4F32-A3EC-4030-BE69-B695D679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5A1A-EFF2-44AD-9912-BF09D201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14E1-A251-4D2D-9780-2BF2DF37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D123-9692-4017-9373-E0C6CCA1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0C1F-D416-4BC8-A79B-64883B97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118F-4140-4767-BDCA-2D6EBF01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C321-632B-4C83-9DAD-9D906314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F1C7-A8AC-4F80-A037-E41A613B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7958-37C0-4582-AF84-2A4C61FCF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hyperlink" Target="mailto:Vincent.Obaton@ac-grenoble.fr" TargetMode="External"/><Relationship Id="rId4" Type="http://schemas.openxmlformats.org/officeDocument/2006/relationships/hyperlink" Target="mailto:Vincent.Obaton@ac-grenoble.fr" TargetMode="External"/><Relationship Id="rId5" Type="http://schemas.openxmlformats.org/officeDocument/2006/relationships/hyperlink" Target="mailto:Vincent.Obaton@ac-grenoble.fr" TargetMode="External"/><Relationship Id="rId6" Type="http://schemas.openxmlformats.org/officeDocument/2006/relationships/hyperlink" Target="mailto:Vincent.Obaton@ac-grenoble.fr" TargetMode="External"/><Relationship Id="rId7" Type="http://schemas.openxmlformats.org/officeDocument/2006/relationships/hyperlink" Target="mailto:Vincent.Obaton@ac-grenoble.fr" TargetMode="External"/><Relationship Id="rId8" Type="http://schemas.openxmlformats.org/officeDocument/2006/relationships/hyperlink" Target="mailto:Vincent.Obaton@ac-grenoble.fr" TargetMode="External"/><Relationship Id="rId9" Type="http://schemas.openxmlformats.org/officeDocument/2006/relationships/hyperlink" Target="http://www.ecomaths.net/" TargetMode="External"/><Relationship Id="rId10" Type="http://schemas.openxmlformats.org/officeDocument/2006/relationships/hyperlink" Target="http://www.ecomaths.net/" TargetMode="External"/><Relationship Id="rId11" Type="http://schemas.openxmlformats.org/officeDocument/2006/relationships/hyperlink" Target="http://www.ecomaths.net/" TargetMode="External"/><Relationship Id="rId12" Type="http://schemas.openxmlformats.org/officeDocument/2006/relationships/hyperlink" Target="http://www.ecomaths.net/" TargetMode="External"/><Relationship Id="rId13" Type="http://schemas.openxmlformats.org/officeDocument/2006/relationships/hyperlink" Target="http://www.ecomaths.net/" TargetMode="External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581280" y="2362320"/>
          <a:ext cx="1814760" cy="16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2362320"/>
                    <a:ext cx="1814760" cy="16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2337840" y="4417560"/>
            <a:ext cx="464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iaporama de </a:t>
            </a:r>
            <a:r>
              <a:rPr b="1" lang="fr-FR" sz="2400" spc="-1" strike="noStrike">
                <a:solidFill>
                  <a:srgbClr val="ccccff"/>
                </a:solidFill>
                <a:latin typeface="Times New Roman"/>
              </a:rPr>
              <a:t>Vincent OBATO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llège Côte Rousse ( Chambéry )</a:t>
            </a:r>
            <a:br>
              <a:rPr sz="2400"/>
            </a:br>
            <a:r>
              <a:rPr b="0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Vincent.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Obaton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@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ac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-grenoble.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fr</a:t>
            </a:r>
            <a:br>
              <a:rPr sz="2400"/>
            </a:br>
            <a:r>
              <a:rPr b="0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www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.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ecomaths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.net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cercle62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3241800" y="3254760"/>
            <a:ext cx="1409760" cy="1778040"/>
            <a:chOff x="3241800" y="3254760"/>
            <a:chExt cx="1409760" cy="1778040"/>
          </a:xfrm>
        </p:grpSpPr>
        <p:sp>
          <p:nvSpPr>
            <p:cNvPr id="114" name=""/>
            <p:cNvSpPr/>
            <p:nvPr/>
          </p:nvSpPr>
          <p:spPr>
            <a:xfrm rot="20260200">
              <a:off x="3533040" y="3259800"/>
              <a:ext cx="69120" cy="207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0260200">
              <a:off x="3516120" y="3388320"/>
              <a:ext cx="207720" cy="207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91800" y="3575160"/>
              <a:ext cx="959760" cy="8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3728880" y="3484440"/>
              <a:ext cx="922320" cy="9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3242160" y="3601440"/>
              <a:ext cx="385920" cy="143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241800" y="3563280"/>
              <a:ext cx="295200" cy="146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cercle61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3098160" y="3025080"/>
            <a:ext cx="1505160" cy="1654560"/>
            <a:chOff x="3098160" y="3025080"/>
            <a:chExt cx="1505160" cy="1654560"/>
          </a:xfrm>
        </p:grpSpPr>
        <p:sp>
          <p:nvSpPr>
            <p:cNvPr id="123" name=""/>
            <p:cNvSpPr/>
            <p:nvPr/>
          </p:nvSpPr>
          <p:spPr>
            <a:xfrm rot="21069000">
              <a:off x="3768840" y="3029040"/>
              <a:ext cx="69120" cy="207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1069000">
              <a:off x="3720240" y="3166200"/>
              <a:ext cx="207720" cy="207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75400" y="3367440"/>
              <a:ext cx="727920" cy="10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3931920" y="3287880"/>
              <a:ext cx="671040" cy="11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3098160" y="3378240"/>
              <a:ext cx="708480" cy="130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098160" y="3319920"/>
              <a:ext cx="628920" cy="135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ercle60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3116160" y="2820960"/>
            <a:ext cx="1523880" cy="1605960"/>
            <a:chOff x="3116160" y="2820960"/>
            <a:chExt cx="1523880" cy="1605960"/>
          </a:xfrm>
        </p:grpSpPr>
        <p:sp>
          <p:nvSpPr>
            <p:cNvPr id="132" name=""/>
            <p:cNvSpPr/>
            <p:nvPr/>
          </p:nvSpPr>
          <p:spPr>
            <a:xfrm rot="33600">
              <a:off x="4031640" y="2820960"/>
              <a:ext cx="6912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33600">
              <a:off x="3960720" y="2966400"/>
              <a:ext cx="20772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98240" y="3185280"/>
              <a:ext cx="541800" cy="124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4167720" y="3113280"/>
              <a:ext cx="471960" cy="131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3116160" y="3184560"/>
              <a:ext cx="912960" cy="12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3116160" y="3111120"/>
              <a:ext cx="844200" cy="13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cercle59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3174840" y="2809080"/>
            <a:ext cx="1467000" cy="1635480"/>
            <a:chOff x="3174840" y="2809080"/>
            <a:chExt cx="1467000" cy="1635480"/>
          </a:xfrm>
        </p:grpSpPr>
        <p:sp>
          <p:nvSpPr>
            <p:cNvPr id="141" name=""/>
            <p:cNvSpPr/>
            <p:nvPr/>
          </p:nvSpPr>
          <p:spPr>
            <a:xfrm rot="943200">
              <a:off x="4425120" y="2814480"/>
              <a:ext cx="69120" cy="207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943200">
              <a:off x="4318200" y="2948040"/>
              <a:ext cx="207720" cy="207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27280" y="3161160"/>
              <a:ext cx="214560" cy="128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4512240" y="3112560"/>
              <a:ext cx="129240" cy="13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74840" y="3142440"/>
              <a:ext cx="1185840" cy="88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174840" y="3056400"/>
              <a:ext cx="1137960" cy="97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cercle59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1885680" y="2963160"/>
            <a:ext cx="1627920" cy="1512720"/>
            <a:chOff x="1885680" y="2963160"/>
            <a:chExt cx="1627920" cy="1512720"/>
          </a:xfrm>
        </p:grpSpPr>
        <p:sp>
          <p:nvSpPr>
            <p:cNvPr id="150" name=""/>
            <p:cNvSpPr/>
            <p:nvPr/>
          </p:nvSpPr>
          <p:spPr>
            <a:xfrm rot="15790800">
              <a:off x="1958400" y="3611880"/>
              <a:ext cx="69120" cy="207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5790800">
              <a:off x="2026440" y="3595680"/>
              <a:ext cx="207720" cy="207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2229840" y="2963160"/>
              <a:ext cx="1103040" cy="68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152080" y="2963520"/>
              <a:ext cx="1180440" cy="62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2237760" y="3721680"/>
              <a:ext cx="1275840" cy="75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2176920" y="3798720"/>
              <a:ext cx="1336320" cy="67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cercle58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grpSp>
        <p:nvGrpSpPr>
          <p:cNvPr id="158" name=""/>
          <p:cNvGrpSpPr/>
          <p:nvPr/>
        </p:nvGrpSpPr>
        <p:grpSpPr>
          <a:xfrm>
            <a:off x="1788840" y="2966040"/>
            <a:ext cx="1610280" cy="1499760"/>
            <a:chOff x="1788840" y="2966040"/>
            <a:chExt cx="1610280" cy="1499760"/>
          </a:xfrm>
        </p:grpSpPr>
        <p:sp>
          <p:nvSpPr>
            <p:cNvPr id="159" name=""/>
            <p:cNvSpPr/>
            <p:nvPr/>
          </p:nvSpPr>
          <p:spPr>
            <a:xfrm rot="16811400">
              <a:off x="1862280" y="3190680"/>
              <a:ext cx="69120" cy="207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6811400">
              <a:off x="1929600" y="3215160"/>
              <a:ext cx="207720" cy="207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142000" y="2966040"/>
              <a:ext cx="1257120" cy="33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086200" y="2966400"/>
              <a:ext cx="1312920" cy="2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2129400" y="3371400"/>
              <a:ext cx="1000080" cy="109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2049480" y="3427560"/>
              <a:ext cx="1080720" cy="10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cercle57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1690920" y="2959200"/>
            <a:ext cx="1644480" cy="1443600"/>
            <a:chOff x="1690920" y="2959200"/>
            <a:chExt cx="1644480" cy="1443600"/>
          </a:xfrm>
        </p:grpSpPr>
        <p:sp>
          <p:nvSpPr>
            <p:cNvPr id="168" name=""/>
            <p:cNvSpPr/>
            <p:nvPr/>
          </p:nvSpPr>
          <p:spPr>
            <a:xfrm rot="17377800">
              <a:off x="1765440" y="2940840"/>
              <a:ext cx="69120" cy="207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7377800">
              <a:off x="1827000" y="2987640"/>
              <a:ext cx="207720" cy="207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040480" y="2967480"/>
              <a:ext cx="1294920" cy="12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97640" y="2967480"/>
              <a:ext cx="13374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2017080" y="3159000"/>
              <a:ext cx="806400" cy="124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1928160" y="3200760"/>
              <a:ext cx="894960" cy="12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cercle56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cercle55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cercle54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cercle66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cercle53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cercle52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cercle51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cercle51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cercle50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cercle49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cercle48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cercle47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cercle47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cercle47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205880" y="1443960"/>
            <a:ext cx="1446840" cy="1541160"/>
            <a:chOff x="4205880" y="1443960"/>
            <a:chExt cx="1446840" cy="1541160"/>
          </a:xfrm>
        </p:grpSpPr>
        <p:sp>
          <p:nvSpPr>
            <p:cNvPr id="202" name=""/>
            <p:cNvSpPr/>
            <p:nvPr/>
          </p:nvSpPr>
          <p:spPr>
            <a:xfrm rot="21534000">
              <a:off x="5033520" y="1444680"/>
              <a:ext cx="65880" cy="207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21534000">
              <a:off x="4970520" y="1583280"/>
              <a:ext cx="197280" cy="207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04440" y="1790640"/>
              <a:ext cx="548280" cy="11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5168160" y="1719360"/>
              <a:ext cx="484200" cy="123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4205880" y="1791720"/>
              <a:ext cx="832680" cy="11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4205880" y="1723320"/>
              <a:ext cx="765360" cy="12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12720" y="2131920"/>
            <a:ext cx="144252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inu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édiat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AB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61960" y="2131920"/>
            <a:ext cx="1396800" cy="25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33"/>
                </a:solidFill>
                <a:latin typeface="Times New Roman"/>
              </a:rPr>
              <a:t>Prend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33"/>
                </a:solidFill>
                <a:latin typeface="Times New Roman"/>
              </a:rPr>
              <a:t>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33"/>
                </a:solidFill>
                <a:latin typeface="Times New Roman"/>
              </a:rPr>
              <a:t>écar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33"/>
                </a:solidFill>
                <a:latin typeface="Times New Roman"/>
              </a:rPr>
              <a:t>de com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33"/>
                </a:solidFill>
                <a:latin typeface="Times New Roman"/>
              </a:rPr>
              <a:t>plus gr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33"/>
                </a:solidFill>
                <a:latin typeface="Times New Roman"/>
              </a:rPr>
              <a:t>que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33"/>
                </a:solidFill>
                <a:latin typeface="Times New Roman"/>
              </a:rPr>
              <a:t>moitié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33"/>
                </a:solidFill>
                <a:latin typeface="Times New Roman"/>
              </a:rPr>
              <a:t>[AB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ercle66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3687480" y="2928240"/>
            <a:ext cx="1741320" cy="1475280"/>
            <a:chOff x="3687480" y="2928240"/>
            <a:chExt cx="1741320" cy="1475280"/>
          </a:xfrm>
        </p:grpSpPr>
        <p:sp>
          <p:nvSpPr>
            <p:cNvPr id="49" name=""/>
            <p:cNvSpPr/>
            <p:nvPr/>
          </p:nvSpPr>
          <p:spPr>
            <a:xfrm rot="2806200">
              <a:off x="5297400" y="2919240"/>
              <a:ext cx="65880" cy="207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806200">
              <a:off x="5131080" y="3013920"/>
              <a:ext cx="197280" cy="207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4679280" y="3213360"/>
              <a:ext cx="497520" cy="119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4678920" y="3213720"/>
              <a:ext cx="592920" cy="118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688200" y="3165120"/>
              <a:ext cx="144360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687480" y="3070080"/>
              <a:ext cx="1449360" cy="27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13440" y="2131920"/>
            <a:ext cx="165276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enç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édiat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AC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61960" y="2131920"/>
            <a:ext cx="1396800" cy="25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33"/>
                </a:solidFill>
                <a:latin typeface="Times New Roman"/>
              </a:rPr>
              <a:t>Prend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33"/>
                </a:solidFill>
                <a:latin typeface="Times New Roman"/>
              </a:rPr>
              <a:t>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33"/>
                </a:solidFill>
                <a:latin typeface="Times New Roman"/>
              </a:rPr>
              <a:t>écar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33"/>
                </a:solidFill>
                <a:latin typeface="Times New Roman"/>
              </a:rPr>
              <a:t>de com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33"/>
                </a:solidFill>
                <a:latin typeface="Times New Roman"/>
              </a:rPr>
              <a:t>plus gr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33"/>
                </a:solidFill>
                <a:latin typeface="Times New Roman"/>
              </a:rPr>
              <a:t>que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33"/>
                </a:solidFill>
                <a:latin typeface="Times New Roman"/>
              </a:rPr>
              <a:t>moitié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33"/>
                </a:solidFill>
                <a:latin typeface="Times New Roman"/>
              </a:rPr>
              <a:t>[AC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cercle47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192200" y="1304280"/>
            <a:ext cx="1541160" cy="1658160"/>
            <a:chOff x="4192200" y="1304280"/>
            <a:chExt cx="1541160" cy="1658160"/>
          </a:xfrm>
        </p:grpSpPr>
        <p:sp>
          <p:nvSpPr>
            <p:cNvPr id="213" name=""/>
            <p:cNvSpPr/>
            <p:nvPr/>
          </p:nvSpPr>
          <p:spPr>
            <a:xfrm rot="1363200">
              <a:off x="5609520" y="1310040"/>
              <a:ext cx="72720" cy="207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363200">
              <a:off x="5483520" y="1437840"/>
              <a:ext cx="218160" cy="207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86480" y="1652040"/>
              <a:ext cx="81360" cy="13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668200" y="1615680"/>
              <a:ext cx="11880" cy="134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4192200" y="1623960"/>
              <a:ext cx="13266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192560" y="1531440"/>
              <a:ext cx="1286280" cy="81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cercle46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417560" y="1386360"/>
            <a:ext cx="1698480" cy="1586880"/>
            <a:chOff x="4417560" y="1386360"/>
            <a:chExt cx="1698480" cy="1586880"/>
          </a:xfrm>
        </p:grpSpPr>
        <p:sp>
          <p:nvSpPr>
            <p:cNvPr id="222" name=""/>
            <p:cNvSpPr/>
            <p:nvPr/>
          </p:nvSpPr>
          <p:spPr>
            <a:xfrm rot="2259000">
              <a:off x="5990400" y="1385640"/>
              <a:ext cx="69120" cy="207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2259000">
              <a:off x="5836320" y="1495440"/>
              <a:ext cx="207720" cy="207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5624280" y="1702800"/>
              <a:ext cx="280440" cy="127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5624280" y="1689480"/>
              <a:ext cx="377280" cy="128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4417560" y="1660320"/>
              <a:ext cx="1432440" cy="38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417920" y="1562760"/>
              <a:ext cx="141948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cercle45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724640" y="1559160"/>
            <a:ext cx="1800720" cy="1411920"/>
            <a:chOff x="4724640" y="1559160"/>
            <a:chExt cx="1800720" cy="1411920"/>
          </a:xfrm>
        </p:grpSpPr>
        <p:sp>
          <p:nvSpPr>
            <p:cNvPr id="231" name=""/>
            <p:cNvSpPr/>
            <p:nvPr/>
          </p:nvSpPr>
          <p:spPr>
            <a:xfrm rot="3190800">
              <a:off x="6386760" y="1545120"/>
              <a:ext cx="69120" cy="207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3190800">
              <a:off x="6206400" y="1627920"/>
              <a:ext cx="207720" cy="207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637600" y="1822320"/>
              <a:ext cx="610560" cy="114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5637600" y="1835280"/>
              <a:ext cx="707400" cy="113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24640" y="1751400"/>
              <a:ext cx="148212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4725000" y="1669320"/>
              <a:ext cx="1495800" cy="8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cercle45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570760" y="1306080"/>
            <a:ext cx="1611000" cy="1656360"/>
            <a:chOff x="2570760" y="1306080"/>
            <a:chExt cx="1611000" cy="1656360"/>
          </a:xfrm>
        </p:grpSpPr>
        <p:sp>
          <p:nvSpPr>
            <p:cNvPr id="240" name=""/>
            <p:cNvSpPr/>
            <p:nvPr/>
          </p:nvSpPr>
          <p:spPr>
            <a:xfrm rot="18243600">
              <a:off x="2641320" y="1288800"/>
              <a:ext cx="69120" cy="207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8243600">
              <a:off x="2686680" y="1366560"/>
              <a:ext cx="207720" cy="207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96560" y="1499760"/>
              <a:ext cx="1285200" cy="20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2876760" y="1404000"/>
              <a:ext cx="1304640" cy="29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2857680" y="1557360"/>
              <a:ext cx="470880" cy="14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2760840" y="1575720"/>
              <a:ext cx="567360" cy="138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cercle44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912400" y="1218960"/>
            <a:ext cx="1517400" cy="1762920"/>
            <a:chOff x="2912400" y="1218960"/>
            <a:chExt cx="1517400" cy="1762920"/>
          </a:xfrm>
        </p:grpSpPr>
        <p:sp>
          <p:nvSpPr>
            <p:cNvPr id="249" name=""/>
            <p:cNvSpPr/>
            <p:nvPr/>
          </p:nvSpPr>
          <p:spPr>
            <a:xfrm rot="18901200">
              <a:off x="2975400" y="1212840"/>
              <a:ext cx="69120" cy="207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8901200">
              <a:off x="3003840" y="1311120"/>
              <a:ext cx="207720" cy="207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06160" y="1463760"/>
              <a:ext cx="1223640" cy="44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3205080" y="1366200"/>
              <a:ext cx="1224360" cy="53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3157200" y="1513080"/>
              <a:ext cx="195120" cy="146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3058560" y="1512720"/>
              <a:ext cx="293400" cy="146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cercle43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156480" y="1171800"/>
            <a:ext cx="1415520" cy="1800000"/>
            <a:chOff x="3156480" y="1171800"/>
            <a:chExt cx="1415520" cy="1800000"/>
          </a:xfrm>
        </p:grpSpPr>
        <p:sp>
          <p:nvSpPr>
            <p:cNvPr id="258" name=""/>
            <p:cNvSpPr/>
            <p:nvPr/>
          </p:nvSpPr>
          <p:spPr>
            <a:xfrm rot="19375800">
              <a:off x="3211920" y="1171440"/>
              <a:ext cx="69120" cy="207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9375800">
              <a:off x="3225960" y="1281960"/>
              <a:ext cx="207720" cy="207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20720" y="1447920"/>
              <a:ext cx="1151280" cy="60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3432960" y="1350720"/>
              <a:ext cx="1138320" cy="70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356280" y="1489680"/>
              <a:ext cx="9000" cy="148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3267720" y="1476000"/>
              <a:ext cx="8856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cercle42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344400" y="1200240"/>
            <a:ext cx="1393920" cy="1785600"/>
            <a:chOff x="3344400" y="1200240"/>
            <a:chExt cx="1393920" cy="1785600"/>
          </a:xfrm>
        </p:grpSpPr>
        <p:sp>
          <p:nvSpPr>
            <p:cNvPr id="267" name=""/>
            <p:cNvSpPr/>
            <p:nvPr/>
          </p:nvSpPr>
          <p:spPr>
            <a:xfrm rot="20170200">
              <a:off x="3591360" y="1205280"/>
              <a:ext cx="69120" cy="207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20170200">
              <a:off x="3577680" y="1332000"/>
              <a:ext cx="207720" cy="207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55880" y="1517040"/>
              <a:ext cx="982440" cy="85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 flipV="1">
              <a:off x="3790440" y="1425600"/>
              <a:ext cx="947160" cy="9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3344400" y="1545120"/>
              <a:ext cx="348120" cy="144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344400" y="1509120"/>
              <a:ext cx="256320" cy="14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cercle42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271680" y="2674440"/>
            <a:ext cx="1794240" cy="1445040"/>
            <a:chOff x="3271680" y="2674440"/>
            <a:chExt cx="1794240" cy="1445040"/>
          </a:xfrm>
        </p:grpSpPr>
        <p:sp>
          <p:nvSpPr>
            <p:cNvPr id="276" name=""/>
            <p:cNvSpPr/>
            <p:nvPr/>
          </p:nvSpPr>
          <p:spPr>
            <a:xfrm rot="3053400">
              <a:off x="4928760" y="2662560"/>
              <a:ext cx="69120" cy="207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3053400">
              <a:off x="4751640" y="2750040"/>
              <a:ext cx="207720" cy="207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4232880" y="2946960"/>
              <a:ext cx="564480" cy="117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4232520" y="2956320"/>
              <a:ext cx="661680" cy="116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3272040" y="2892960"/>
              <a:ext cx="1481760" cy="4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3271680" y="2795400"/>
              <a:ext cx="1491480" cy="1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cercle41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348000" y="2314800"/>
            <a:ext cx="1712520" cy="1575720"/>
            <a:chOff x="3348000" y="2314800"/>
            <a:chExt cx="1712520" cy="1575720"/>
          </a:xfrm>
        </p:grpSpPr>
        <p:sp>
          <p:nvSpPr>
            <p:cNvPr id="285" name=""/>
            <p:cNvSpPr/>
            <p:nvPr/>
          </p:nvSpPr>
          <p:spPr>
            <a:xfrm rot="2341800">
              <a:off x="4933440" y="2313360"/>
              <a:ext cx="69120" cy="207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2341800">
              <a:off x="4776480" y="2420640"/>
              <a:ext cx="207720" cy="207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4531320" y="2627640"/>
              <a:ext cx="311400" cy="12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4531320" y="2616120"/>
              <a:ext cx="408240" cy="127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3348000" y="2583720"/>
              <a:ext cx="1440720" cy="34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3348000" y="2485800"/>
              <a:ext cx="1430640" cy="44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cercle40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3331080" y="1958400"/>
            <a:ext cx="1526040" cy="1644120"/>
            <a:chOff x="3331080" y="1958400"/>
            <a:chExt cx="1526040" cy="1644120"/>
          </a:xfrm>
        </p:grpSpPr>
        <p:sp>
          <p:nvSpPr>
            <p:cNvPr id="294" name=""/>
            <p:cNvSpPr/>
            <p:nvPr/>
          </p:nvSpPr>
          <p:spPr>
            <a:xfrm rot="1496400">
              <a:off x="4743000" y="1963080"/>
              <a:ext cx="69120" cy="207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496400">
              <a:off x="4615200" y="2088360"/>
              <a:ext cx="207720" cy="207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07000" y="2301480"/>
              <a:ext cx="5760" cy="130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4712760" y="2267280"/>
              <a:ext cx="86040" cy="133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3331080" y="2272320"/>
              <a:ext cx="1313280" cy="68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3331440" y="2179800"/>
              <a:ext cx="1279440" cy="77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ercle66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4463280" y="2937600"/>
            <a:ext cx="1648440" cy="1507680"/>
            <a:chOff x="4463280" y="2937600"/>
            <a:chExt cx="1648440" cy="1507680"/>
          </a:xfrm>
        </p:grpSpPr>
        <p:sp>
          <p:nvSpPr>
            <p:cNvPr id="60" name=""/>
            <p:cNvSpPr/>
            <p:nvPr/>
          </p:nvSpPr>
          <p:spPr>
            <a:xfrm rot="4900800">
              <a:off x="5969160" y="3553560"/>
              <a:ext cx="69120" cy="207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4900800">
              <a:off x="5762880" y="3573000"/>
              <a:ext cx="207720" cy="207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683960" y="3727080"/>
              <a:ext cx="1085040" cy="71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4683600" y="3784680"/>
              <a:ext cx="1163880" cy="66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64000" y="2937600"/>
              <a:ext cx="1295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63280" y="2937960"/>
              <a:ext cx="1354320" cy="64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cercle40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4061520" y="2382480"/>
            <a:ext cx="1559520" cy="1730520"/>
            <a:chOff x="4061520" y="2382480"/>
            <a:chExt cx="1559520" cy="1730520"/>
          </a:xfrm>
        </p:grpSpPr>
        <p:sp>
          <p:nvSpPr>
            <p:cNvPr id="303" name=""/>
            <p:cNvSpPr/>
            <p:nvPr/>
          </p:nvSpPr>
          <p:spPr>
            <a:xfrm rot="18655200">
              <a:off x="4127760" y="2372400"/>
              <a:ext cx="69120" cy="207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8655200">
              <a:off x="4163400" y="2463480"/>
              <a:ext cx="207720" cy="207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68960" y="2608920"/>
              <a:ext cx="1252080" cy="35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4360680" y="2511720"/>
              <a:ext cx="1259640" cy="45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>
              <a:off x="4323240" y="2661480"/>
              <a:ext cx="299880" cy="145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>
              <a:off x="4224960" y="2668320"/>
              <a:ext cx="397800" cy="144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cercle39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4174560" y="2185560"/>
            <a:ext cx="1472400" cy="1785240"/>
            <a:chOff x="4174560" y="2185560"/>
            <a:chExt cx="1472400" cy="1785240"/>
          </a:xfrm>
        </p:grpSpPr>
        <p:sp>
          <p:nvSpPr>
            <p:cNvPr id="312" name=""/>
            <p:cNvSpPr/>
            <p:nvPr/>
          </p:nvSpPr>
          <p:spPr>
            <a:xfrm rot="19128000">
              <a:off x="4234320" y="2182320"/>
              <a:ext cx="69120" cy="207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9128000">
              <a:off x="4255920" y="2286720"/>
              <a:ext cx="207720" cy="207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54640" y="2446200"/>
              <a:ext cx="119232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4460400" y="2348280"/>
              <a:ext cx="1185840" cy="61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flipV="1">
              <a:off x="4402800" y="2491560"/>
              <a:ext cx="97560" cy="147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flipV="1">
              <a:off x="4304520" y="2484720"/>
              <a:ext cx="195480" cy="14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cercle38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296960" y="1904040"/>
            <a:ext cx="1316880" cy="1804680"/>
            <a:chOff x="4296960" y="1904040"/>
            <a:chExt cx="1316880" cy="1804680"/>
          </a:xfrm>
        </p:grpSpPr>
        <p:sp>
          <p:nvSpPr>
            <p:cNvPr id="321" name=""/>
            <p:cNvSpPr/>
            <p:nvPr/>
          </p:nvSpPr>
          <p:spPr>
            <a:xfrm rot="19786200">
              <a:off x="4355640" y="1907280"/>
              <a:ext cx="69120" cy="207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19786200">
              <a:off x="4356000" y="2027160"/>
              <a:ext cx="207720" cy="207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42480" y="2203200"/>
              <a:ext cx="1071360" cy="73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flipV="1">
              <a:off x="4566600" y="2108520"/>
              <a:ext cx="1046520" cy="83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4296960" y="2238120"/>
              <a:ext cx="185760" cy="147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4296960" y="2212920"/>
              <a:ext cx="9036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cercle37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cercle36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cercle35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cercle34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cercle33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cercle33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cercle32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ercle65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4629240" y="2948040"/>
            <a:ext cx="1596240" cy="1508040"/>
            <a:chOff x="4629240" y="2948040"/>
            <a:chExt cx="1596240" cy="1508040"/>
          </a:xfrm>
        </p:grpSpPr>
        <p:sp>
          <p:nvSpPr>
            <p:cNvPr id="69" name=""/>
            <p:cNvSpPr/>
            <p:nvPr/>
          </p:nvSpPr>
          <p:spPr>
            <a:xfrm rot="5887800">
              <a:off x="6082920" y="3970080"/>
              <a:ext cx="69120" cy="207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5887800">
              <a:off x="5876640" y="3950640"/>
              <a:ext cx="207720" cy="207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629240" y="4074480"/>
              <a:ext cx="1243800" cy="38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4629600" y="4152240"/>
              <a:ext cx="1302840" cy="30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44880" y="2948040"/>
              <a:ext cx="1037880" cy="105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45240" y="2948040"/>
              <a:ext cx="1116360" cy="9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cercle31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cercle31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2720" y="2131920"/>
            <a:ext cx="144252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inu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édiat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BC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61960" y="2131920"/>
            <a:ext cx="1396800" cy="25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33"/>
                </a:solidFill>
                <a:latin typeface="Times New Roman"/>
              </a:rPr>
              <a:t>Prend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33"/>
                </a:solidFill>
                <a:latin typeface="Times New Roman"/>
              </a:rPr>
              <a:t>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33"/>
                </a:solidFill>
                <a:latin typeface="Times New Roman"/>
              </a:rPr>
              <a:t>écar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33"/>
                </a:solidFill>
                <a:latin typeface="Times New Roman"/>
              </a:rPr>
              <a:t>de com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33"/>
                </a:solidFill>
                <a:latin typeface="Times New Roman"/>
              </a:rPr>
              <a:t>plus gr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33"/>
                </a:solidFill>
                <a:latin typeface="Times New Roman"/>
              </a:rPr>
              <a:t>que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33"/>
                </a:solidFill>
                <a:latin typeface="Times New Roman"/>
              </a:rPr>
              <a:t>moitié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33"/>
                </a:solidFill>
                <a:latin typeface="Times New Roman"/>
              </a:rPr>
              <a:t>[BC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007880" y="2578320"/>
            <a:ext cx="1598400" cy="1607760"/>
            <a:chOff x="4007880" y="2578320"/>
            <a:chExt cx="1598400" cy="1607760"/>
          </a:xfrm>
        </p:grpSpPr>
        <p:sp>
          <p:nvSpPr>
            <p:cNvPr id="348" name=""/>
            <p:cNvSpPr/>
            <p:nvPr/>
          </p:nvSpPr>
          <p:spPr>
            <a:xfrm rot="18201600">
              <a:off x="4079520" y="2558880"/>
              <a:ext cx="65880" cy="207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18201600">
              <a:off x="4129200" y="2635560"/>
              <a:ext cx="197280" cy="207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333320" y="2768760"/>
              <a:ext cx="127296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 flipV="1">
              <a:off x="4311360" y="2676240"/>
              <a:ext cx="1294920" cy="30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flipV="1">
              <a:off x="4296600" y="2823480"/>
              <a:ext cx="513360" cy="13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4203000" y="2840760"/>
              <a:ext cx="607320" cy="134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cercle31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199760" y="1651680"/>
            <a:ext cx="1391400" cy="1717920"/>
            <a:chOff x="4199760" y="1651680"/>
            <a:chExt cx="1391400" cy="1717920"/>
          </a:xfrm>
        </p:grpSpPr>
        <p:sp>
          <p:nvSpPr>
            <p:cNvPr id="357" name=""/>
            <p:cNvSpPr/>
            <p:nvPr/>
          </p:nvSpPr>
          <p:spPr>
            <a:xfrm rot="20642400">
              <a:off x="4630320" y="1656360"/>
              <a:ext cx="65880" cy="207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20642400">
              <a:off x="4602600" y="1789560"/>
              <a:ext cx="197280" cy="207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62080" y="1984680"/>
              <a:ext cx="829080" cy="9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4805280" y="1899360"/>
              <a:ext cx="785520" cy="10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4199760" y="2002680"/>
              <a:ext cx="49896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4199760" y="1953720"/>
              <a:ext cx="416160" cy="141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cercle30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4160160" y="1503000"/>
            <a:ext cx="1431720" cy="1644840"/>
            <a:chOff x="4160160" y="1503000"/>
            <a:chExt cx="1431720" cy="1644840"/>
          </a:xfrm>
        </p:grpSpPr>
        <p:sp>
          <p:nvSpPr>
            <p:cNvPr id="366" name=""/>
            <p:cNvSpPr/>
            <p:nvPr/>
          </p:nvSpPr>
          <p:spPr>
            <a:xfrm rot="21084600">
              <a:off x="4793760" y="1506600"/>
              <a:ext cx="65880" cy="207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21084600">
              <a:off x="4748400" y="1643400"/>
              <a:ext cx="197280" cy="207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895280" y="1845360"/>
              <a:ext cx="696600" cy="10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4950000" y="1767240"/>
              <a:ext cx="641520" cy="116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160160" y="1854720"/>
              <a:ext cx="669960" cy="12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160520" y="1796760"/>
              <a:ext cx="594360" cy="135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cercle29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4083120" y="1438560"/>
            <a:ext cx="1521720" cy="1576800"/>
            <a:chOff x="4083120" y="1438560"/>
            <a:chExt cx="1521720" cy="1576800"/>
          </a:xfrm>
        </p:grpSpPr>
        <p:sp>
          <p:nvSpPr>
            <p:cNvPr id="375" name=""/>
            <p:cNvSpPr/>
            <p:nvPr/>
          </p:nvSpPr>
          <p:spPr>
            <a:xfrm rot="21403200">
              <a:off x="4901040" y="1440360"/>
              <a:ext cx="69120" cy="207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21403200">
              <a:off x="4839840" y="1578960"/>
              <a:ext cx="207720" cy="207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984200" y="1784520"/>
              <a:ext cx="620640" cy="11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 flipV="1">
              <a:off x="5049000" y="1710720"/>
              <a:ext cx="555480" cy="121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4083480" y="1788480"/>
              <a:ext cx="831600" cy="12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4083120" y="1722600"/>
              <a:ext cx="758880" cy="12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cercle29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3004920" y="3005640"/>
            <a:ext cx="1601640" cy="1426680"/>
            <a:chOff x="3004920" y="3005640"/>
            <a:chExt cx="1601640" cy="1426680"/>
          </a:xfrm>
        </p:grpSpPr>
        <p:sp>
          <p:nvSpPr>
            <p:cNvPr id="384" name=""/>
            <p:cNvSpPr/>
            <p:nvPr/>
          </p:nvSpPr>
          <p:spPr>
            <a:xfrm flipH="1" rot="15616200">
              <a:off x="3079800" y="4016880"/>
              <a:ext cx="65880" cy="207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 rot="15616200">
              <a:off x="3150360" y="3993840"/>
              <a:ext cx="197280" cy="2073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357360" y="4112640"/>
              <a:ext cx="1249200" cy="3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3299760" y="4188960"/>
              <a:ext cx="130644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3346200" y="3005640"/>
              <a:ext cx="1015920" cy="10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266280" y="3005640"/>
              <a:ext cx="1095480" cy="9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cercle28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2983680" y="3053880"/>
            <a:ext cx="1645560" cy="1470240"/>
            <a:chOff x="2983680" y="3053880"/>
            <a:chExt cx="1645560" cy="1470240"/>
          </a:xfrm>
        </p:grpSpPr>
        <p:sp>
          <p:nvSpPr>
            <p:cNvPr id="393" name=""/>
            <p:cNvSpPr/>
            <p:nvPr/>
          </p:nvSpPr>
          <p:spPr>
            <a:xfrm flipH="1" rot="14923800">
              <a:off x="3057840" y="4335840"/>
              <a:ext cx="69120" cy="207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rot="14923800">
              <a:off x="3118320" y="4285440"/>
              <a:ext cx="207720" cy="2080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331440" y="4384440"/>
              <a:ext cx="129780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3291120" y="4473360"/>
              <a:ext cx="13377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3306240" y="3053880"/>
              <a:ext cx="770400" cy="126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3215880" y="3053880"/>
              <a:ext cx="860400" cy="12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cercle27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2984400" y="3153960"/>
            <a:ext cx="1633680" cy="1590480"/>
            <a:chOff x="2984400" y="3153960"/>
            <a:chExt cx="1633680" cy="1590480"/>
          </a:xfrm>
        </p:grpSpPr>
        <p:sp>
          <p:nvSpPr>
            <p:cNvPr id="402" name=""/>
            <p:cNvSpPr/>
            <p:nvPr/>
          </p:nvSpPr>
          <p:spPr>
            <a:xfrm flipH="1" rot="14445600">
              <a:off x="3057120" y="4559400"/>
              <a:ext cx="69480" cy="207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rot="14445600">
              <a:off x="3108240" y="4491360"/>
              <a:ext cx="207720" cy="2073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3320280" y="4483440"/>
              <a:ext cx="129780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3292920" y="4483080"/>
              <a:ext cx="1324800" cy="1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3286440" y="3153960"/>
              <a:ext cx="587520" cy="136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3191760" y="3154320"/>
              <a:ext cx="681840" cy="13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cercle27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5607360" y="2928240"/>
            <a:ext cx="1549080" cy="1522800"/>
            <a:chOff x="5607360" y="2928240"/>
            <a:chExt cx="1549080" cy="1522800"/>
          </a:xfrm>
        </p:grpSpPr>
        <p:sp>
          <p:nvSpPr>
            <p:cNvPr id="411" name=""/>
            <p:cNvSpPr/>
            <p:nvPr/>
          </p:nvSpPr>
          <p:spPr>
            <a:xfrm flipV="1" rot="16056000">
              <a:off x="7016400" y="3353040"/>
              <a:ext cx="69120" cy="207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 rot="16056000">
              <a:off x="6808680" y="3359520"/>
              <a:ext cx="207360" cy="207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5607720" y="2928240"/>
              <a:ext cx="119988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607360" y="2928960"/>
              <a:ext cx="126648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5672160" y="3501720"/>
              <a:ext cx="1138680" cy="9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5671440" y="3568320"/>
              <a:ext cx="1211040" cy="88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cercle26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5629680" y="2950200"/>
            <a:ext cx="1629000" cy="1478160"/>
            <a:chOff x="5629680" y="2950200"/>
            <a:chExt cx="1629000" cy="1478160"/>
          </a:xfrm>
        </p:grpSpPr>
        <p:sp>
          <p:nvSpPr>
            <p:cNvPr id="420" name=""/>
            <p:cNvSpPr/>
            <p:nvPr/>
          </p:nvSpPr>
          <p:spPr>
            <a:xfrm flipV="1" rot="15360000">
              <a:off x="7114680" y="3073680"/>
              <a:ext cx="69120" cy="207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 rot="15360000">
              <a:off x="6911280" y="3107880"/>
              <a:ext cx="207720" cy="2073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5629680" y="2950200"/>
              <a:ext cx="127620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630040" y="2950200"/>
              <a:ext cx="1326960" cy="16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5998320" y="3269880"/>
              <a:ext cx="924480" cy="11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998680" y="3320640"/>
              <a:ext cx="1008720" cy="110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rcle64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4639320" y="3039120"/>
            <a:ext cx="1645920" cy="1497960"/>
            <a:chOff x="4639320" y="3039120"/>
            <a:chExt cx="1645920" cy="1497960"/>
          </a:xfrm>
        </p:grpSpPr>
        <p:sp>
          <p:nvSpPr>
            <p:cNvPr id="78" name=""/>
            <p:cNvSpPr/>
            <p:nvPr/>
          </p:nvSpPr>
          <p:spPr>
            <a:xfrm rot="6783000">
              <a:off x="6141240" y="4351320"/>
              <a:ext cx="69120" cy="207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6783000">
              <a:off x="5945040" y="4296960"/>
              <a:ext cx="207720" cy="207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4639320" y="4392720"/>
              <a:ext cx="1300320" cy="4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40040" y="4440960"/>
              <a:ext cx="1337040" cy="4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35840" y="3039120"/>
              <a:ext cx="730800" cy="128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36200" y="3039480"/>
              <a:ext cx="821880" cy="12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cercle25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5655960" y="2621160"/>
            <a:ext cx="1622520" cy="1629000"/>
            <a:chOff x="5655960" y="2621160"/>
            <a:chExt cx="1622520" cy="1629000"/>
          </a:xfrm>
        </p:grpSpPr>
        <p:sp>
          <p:nvSpPr>
            <p:cNvPr id="429" name=""/>
            <p:cNvSpPr/>
            <p:nvPr/>
          </p:nvSpPr>
          <p:spPr>
            <a:xfrm flipV="1" rot="14284200">
              <a:off x="7137360" y="2601360"/>
              <a:ext cx="69120" cy="207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 rot="14284200">
              <a:off x="6950880" y="2674440"/>
              <a:ext cx="207720" cy="207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655960" y="2804400"/>
              <a:ext cx="12920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5656320" y="2709000"/>
              <a:ext cx="1314720" cy="2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6462000" y="2863080"/>
              <a:ext cx="522720" cy="13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462360" y="2885040"/>
              <a:ext cx="618120" cy="136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cercle25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4660560" y="3175560"/>
            <a:ext cx="1430280" cy="1764720"/>
            <a:chOff x="4660560" y="3175560"/>
            <a:chExt cx="1430280" cy="1764720"/>
          </a:xfrm>
        </p:grpSpPr>
        <p:sp>
          <p:nvSpPr>
            <p:cNvPr id="438" name=""/>
            <p:cNvSpPr/>
            <p:nvPr/>
          </p:nvSpPr>
          <p:spPr>
            <a:xfrm flipH="1" rot="1212000">
              <a:off x="5668920" y="3180960"/>
              <a:ext cx="69120" cy="207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rot="1212000">
              <a:off x="5551200" y="3310920"/>
              <a:ext cx="207720" cy="2073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4660560" y="3500280"/>
              <a:ext cx="926280" cy="9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661280" y="3411360"/>
              <a:ext cx="885600" cy="100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5652000" y="3524400"/>
              <a:ext cx="43848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5741280" y="3483000"/>
              <a:ext cx="349560" cy="145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cercle24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639680" y="2952360"/>
            <a:ext cx="1513440" cy="1627920"/>
            <a:chOff x="4639680" y="2952360"/>
            <a:chExt cx="1513440" cy="1627920"/>
          </a:xfrm>
        </p:grpSpPr>
        <p:sp>
          <p:nvSpPr>
            <p:cNvPr id="447" name=""/>
            <p:cNvSpPr/>
            <p:nvPr/>
          </p:nvSpPr>
          <p:spPr>
            <a:xfrm flipH="1" rot="408000">
              <a:off x="5357160" y="2955600"/>
              <a:ext cx="69120" cy="207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rot="408000">
              <a:off x="5271480" y="3093120"/>
              <a:ext cx="207720" cy="207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4639680" y="3296520"/>
              <a:ext cx="689760" cy="11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4640040" y="3219120"/>
              <a:ext cx="629280" cy="118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 flipV="1">
              <a:off x="5397840" y="3304800"/>
              <a:ext cx="755280" cy="127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5475240" y="3243600"/>
              <a:ext cx="677880" cy="133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cercle23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4621680" y="2905920"/>
            <a:ext cx="1520280" cy="1560240"/>
            <a:chOff x="4621680" y="2905920"/>
            <a:chExt cx="1520280" cy="1560240"/>
          </a:xfrm>
        </p:grpSpPr>
        <p:sp>
          <p:nvSpPr>
            <p:cNvPr id="456" name=""/>
            <p:cNvSpPr/>
            <p:nvPr/>
          </p:nvSpPr>
          <p:spPr>
            <a:xfrm flipH="1" rot="21382800">
              <a:off x="5084280" y="2907720"/>
              <a:ext cx="69120" cy="207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 rot="21382800">
              <a:off x="5024160" y="3045960"/>
              <a:ext cx="207720" cy="207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4621680" y="3255840"/>
              <a:ext cx="478080" cy="12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4622040" y="3191040"/>
              <a:ext cx="405000" cy="127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 flipV="1">
              <a:off x="5169240" y="3251160"/>
              <a:ext cx="972720" cy="111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 flipV="1">
              <a:off x="5234040" y="3178080"/>
              <a:ext cx="907920" cy="11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cercle23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cercle22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cercle21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cercle20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cercle19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cercle18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ercle64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3363840" y="1645560"/>
            <a:ext cx="1490400" cy="1619640"/>
            <a:chOff x="3363840" y="1645560"/>
            <a:chExt cx="1490400" cy="1619640"/>
          </a:xfrm>
        </p:grpSpPr>
        <p:sp>
          <p:nvSpPr>
            <p:cNvPr id="87" name=""/>
            <p:cNvSpPr/>
            <p:nvPr/>
          </p:nvSpPr>
          <p:spPr>
            <a:xfrm rot="718800">
              <a:off x="4538520" y="1650240"/>
              <a:ext cx="69120" cy="207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718800">
              <a:off x="4439880" y="1785960"/>
              <a:ext cx="207720" cy="207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56880" y="1998720"/>
              <a:ext cx="297360" cy="12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4638240" y="1944720"/>
              <a:ext cx="215640" cy="132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3363840" y="1984320"/>
              <a:ext cx="1125000" cy="96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3363840" y="1901520"/>
              <a:ext cx="1071720" cy="10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cercle17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cercle16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cercle14bis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cercle14bis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4648320" y="3112200"/>
            <a:ext cx="228600" cy="2764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12720" y="2284560"/>
            <a:ext cx="136332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l reste 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cer 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rconscr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 tria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61240" y="2436840"/>
            <a:ext cx="144108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33"/>
                </a:solidFill>
                <a:latin typeface="Times New Roman"/>
              </a:rPr>
              <a:t>Mett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33"/>
                </a:solidFill>
                <a:latin typeface="Times New Roman"/>
              </a:rPr>
              <a:t>la poi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33"/>
                </a:solidFill>
                <a:latin typeface="Times New Roman"/>
              </a:rPr>
              <a:t>du com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33"/>
                </a:solidFill>
                <a:latin typeface="Times New Roman"/>
              </a:rPr>
              <a:t>sur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33"/>
                </a:solidFill>
                <a:latin typeface="Times New Roman"/>
              </a:rPr>
              <a:t>et le cray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33"/>
                </a:solidFill>
                <a:latin typeface="Times New Roman"/>
              </a:rPr>
              <a:t>sur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3303720" y="1508040"/>
            <a:ext cx="1207440" cy="1748160"/>
            <a:chOff x="3303720" y="1508040"/>
            <a:chExt cx="1207440" cy="1748160"/>
          </a:xfrm>
        </p:grpSpPr>
        <p:sp>
          <p:nvSpPr>
            <p:cNvPr id="486" name=""/>
            <p:cNvSpPr/>
            <p:nvPr/>
          </p:nvSpPr>
          <p:spPr>
            <a:xfrm flipH="1" flipV="1" rot="11730000">
              <a:off x="4413600" y="1510920"/>
              <a:ext cx="55440" cy="22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 flipV="1" rot="11730000">
              <a:off x="4317120" y="1657440"/>
              <a:ext cx="165960" cy="228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97400" y="1890000"/>
              <a:ext cx="81000" cy="136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4470480" y="1830600"/>
              <a:ext cx="7200" cy="142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3303720" y="1874880"/>
              <a:ext cx="1040040" cy="105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3303720" y="1786320"/>
              <a:ext cx="1006920" cy="11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cercle14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3291480" y="1663920"/>
            <a:ext cx="1212480" cy="1747440"/>
            <a:chOff x="3291480" y="1663920"/>
            <a:chExt cx="1212480" cy="1747440"/>
          </a:xfrm>
        </p:grpSpPr>
        <p:sp>
          <p:nvSpPr>
            <p:cNvPr id="495" name=""/>
            <p:cNvSpPr/>
            <p:nvPr/>
          </p:nvSpPr>
          <p:spPr>
            <a:xfrm flipH="1" flipV="1" rot="10438800">
              <a:off x="3843360" y="1665720"/>
              <a:ext cx="55440" cy="22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 rot="10438800">
              <a:off x="3804120" y="1816920"/>
              <a:ext cx="165960" cy="228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927240" y="2042640"/>
              <a:ext cx="57672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 flipV="1">
              <a:off x="3974040" y="1960560"/>
              <a:ext cx="529560" cy="132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3291480" y="2048040"/>
              <a:ext cx="580680" cy="136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3291480" y="1977840"/>
              <a:ext cx="517680" cy="14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cercle13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3241440" y="2092680"/>
            <a:ext cx="1296000" cy="1835640"/>
            <a:chOff x="3241440" y="2092680"/>
            <a:chExt cx="1296000" cy="1835640"/>
          </a:xfrm>
        </p:grpSpPr>
        <p:sp>
          <p:nvSpPr>
            <p:cNvPr id="504" name=""/>
            <p:cNvSpPr/>
            <p:nvPr/>
          </p:nvSpPr>
          <p:spPr>
            <a:xfrm flipH="1" flipV="1" rot="8925000">
              <a:off x="3296160" y="2089800"/>
              <a:ext cx="5544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flipV="1" rot="8925000">
              <a:off x="3319560" y="2220840"/>
              <a:ext cx="165960" cy="228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486600" y="2418480"/>
              <a:ext cx="1050840" cy="87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flipV="1">
              <a:off x="3493800" y="2324880"/>
              <a:ext cx="1043280" cy="9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 flipV="1">
              <a:off x="3439080" y="2447280"/>
              <a:ext cx="56160" cy="14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flipV="1">
              <a:off x="3351960" y="2410920"/>
              <a:ext cx="143280" cy="151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cercle12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2741760" y="2887560"/>
            <a:ext cx="1713240" cy="1473480"/>
            <a:chOff x="2741760" y="2887560"/>
            <a:chExt cx="1713240" cy="1473480"/>
          </a:xfrm>
        </p:grpSpPr>
        <p:sp>
          <p:nvSpPr>
            <p:cNvPr id="513" name=""/>
            <p:cNvSpPr/>
            <p:nvPr/>
          </p:nvSpPr>
          <p:spPr>
            <a:xfrm flipH="1" flipV="1" rot="7084800">
              <a:off x="2827440" y="2850480"/>
              <a:ext cx="5544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 flipV="1" rot="7084800">
              <a:off x="2906280" y="2923920"/>
              <a:ext cx="165960" cy="228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103920" y="3067200"/>
              <a:ext cx="1351080" cy="21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3062160" y="2982600"/>
              <a:ext cx="1392120" cy="30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 flipV="1">
              <a:off x="3077640" y="3115800"/>
              <a:ext cx="803160" cy="124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 flipV="1">
              <a:off x="2984040" y="3129120"/>
              <a:ext cx="896760" cy="12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cercle11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2742840" y="3275280"/>
            <a:ext cx="1677960" cy="1218960"/>
            <a:chOff x="2742840" y="3275280"/>
            <a:chExt cx="1677960" cy="1218960"/>
          </a:xfrm>
        </p:grpSpPr>
        <p:sp>
          <p:nvSpPr>
            <p:cNvPr id="522" name=""/>
            <p:cNvSpPr/>
            <p:nvPr/>
          </p:nvSpPr>
          <p:spPr>
            <a:xfrm flipH="1" flipV="1" rot="5394000">
              <a:off x="2828880" y="3634560"/>
              <a:ext cx="5544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 flipV="1" rot="5394000">
              <a:off x="2926800" y="3634560"/>
              <a:ext cx="165960" cy="228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3124080" y="3275280"/>
              <a:ext cx="1294560" cy="44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3047760" y="3276000"/>
              <a:ext cx="1370880" cy="39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 flipV="1">
              <a:off x="3124080" y="3776040"/>
              <a:ext cx="1296720" cy="71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 flipV="1">
              <a:off x="3048120" y="3832200"/>
              <a:ext cx="1372680" cy="66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cercle10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3126600" y="3223080"/>
            <a:ext cx="1846800" cy="1121760"/>
            <a:chOff x="3126600" y="3223080"/>
            <a:chExt cx="1846800" cy="1121760"/>
          </a:xfrm>
        </p:grpSpPr>
        <p:sp>
          <p:nvSpPr>
            <p:cNvPr id="531" name=""/>
            <p:cNvSpPr/>
            <p:nvPr/>
          </p:nvSpPr>
          <p:spPr>
            <a:xfrm flipH="1" flipV="1" rot="4000800">
              <a:off x="3214800" y="4159440"/>
              <a:ext cx="5544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 flipV="1" rot="4000800">
              <a:off x="3299760" y="4099680"/>
              <a:ext cx="165600" cy="228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3476880" y="3223080"/>
              <a:ext cx="1014120" cy="91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3385080" y="3223800"/>
              <a:ext cx="1105920" cy="89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 flipV="1">
              <a:off x="3498840" y="4194000"/>
              <a:ext cx="147456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 flipV="1">
              <a:off x="3450600" y="4275360"/>
              <a:ext cx="152280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cercle09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3879360" y="3307680"/>
            <a:ext cx="1595520" cy="1658880"/>
            <a:chOff x="3879360" y="3307680"/>
            <a:chExt cx="1595520" cy="1658880"/>
          </a:xfrm>
        </p:grpSpPr>
        <p:sp>
          <p:nvSpPr>
            <p:cNvPr id="540" name=""/>
            <p:cNvSpPr/>
            <p:nvPr/>
          </p:nvSpPr>
          <p:spPr>
            <a:xfrm flipH="1" flipV="1" rot="2097600">
              <a:off x="3939120" y="4742640"/>
              <a:ext cx="55440" cy="22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flipV="1" rot="2097600">
              <a:off x="3970800" y="4618080"/>
              <a:ext cx="165960" cy="228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4097520" y="3307680"/>
              <a:ext cx="378720" cy="131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4008240" y="3308040"/>
              <a:ext cx="468000" cy="13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4142520" y="4006440"/>
              <a:ext cx="1332360" cy="64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4144320" y="4006440"/>
              <a:ext cx="1330560" cy="74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cercle63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3369600" y="1441800"/>
            <a:ext cx="1523520" cy="1545120"/>
            <a:chOff x="3369600" y="1441800"/>
            <a:chExt cx="1523520" cy="1545120"/>
          </a:xfrm>
        </p:grpSpPr>
        <p:sp>
          <p:nvSpPr>
            <p:cNvPr id="96" name=""/>
            <p:cNvSpPr/>
            <p:nvPr/>
          </p:nvSpPr>
          <p:spPr>
            <a:xfrm rot="21525000">
              <a:off x="4239000" y="1442160"/>
              <a:ext cx="69120" cy="207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21525000">
              <a:off x="4172400" y="1580760"/>
              <a:ext cx="207720" cy="207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13520" y="1788120"/>
              <a:ext cx="579600" cy="11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4380480" y="1717560"/>
              <a:ext cx="512280" cy="12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3369600" y="1789200"/>
              <a:ext cx="874800" cy="11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369600" y="1721880"/>
              <a:ext cx="803880" cy="12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cercle08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4404600" y="3296520"/>
            <a:ext cx="1207080" cy="1748520"/>
            <a:chOff x="4404600" y="3296520"/>
            <a:chExt cx="1207080" cy="1748520"/>
          </a:xfrm>
        </p:grpSpPr>
        <p:sp>
          <p:nvSpPr>
            <p:cNvPr id="549" name=""/>
            <p:cNvSpPr/>
            <p:nvPr/>
          </p:nvSpPr>
          <p:spPr>
            <a:xfrm flipH="1" flipV="1" rot="928800">
              <a:off x="4445640" y="4812840"/>
              <a:ext cx="5544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 flipV="1" rot="928800">
              <a:off x="4431240" y="4665960"/>
              <a:ext cx="165960" cy="228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flipV="1">
              <a:off x="4437000" y="3296520"/>
              <a:ext cx="81360" cy="136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437720" y="3296520"/>
              <a:ext cx="7560" cy="142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4571640" y="3621600"/>
              <a:ext cx="1040040" cy="105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4605120" y="3621600"/>
              <a:ext cx="1006560" cy="11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cercle07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476960" y="3009240"/>
            <a:ext cx="1188360" cy="1806840"/>
            <a:chOff x="4476960" y="3009240"/>
            <a:chExt cx="1188360" cy="1806840"/>
          </a:xfrm>
        </p:grpSpPr>
        <p:sp>
          <p:nvSpPr>
            <p:cNvPr id="558" name=""/>
            <p:cNvSpPr/>
            <p:nvPr/>
          </p:nvSpPr>
          <p:spPr>
            <a:xfrm flipH="1" flipV="1" rot="20828400">
              <a:off x="5255640" y="4583880"/>
              <a:ext cx="5544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 flipV="1" rot="20828400">
              <a:off x="5167080" y="4435200"/>
              <a:ext cx="165960" cy="228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 flipV="1">
              <a:off x="4476960" y="3280320"/>
              <a:ext cx="720360" cy="116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477680" y="3280320"/>
              <a:ext cx="68328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5251320" y="3009240"/>
              <a:ext cx="414000" cy="142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5322600" y="3009240"/>
              <a:ext cx="342720" cy="148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cercle06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4460040" y="2409480"/>
            <a:ext cx="1553760" cy="1720080"/>
            <a:chOff x="4460040" y="2409480"/>
            <a:chExt cx="1553760" cy="1720080"/>
          </a:xfrm>
        </p:grpSpPr>
        <p:sp>
          <p:nvSpPr>
            <p:cNvPr id="567" name=""/>
            <p:cNvSpPr/>
            <p:nvPr/>
          </p:nvSpPr>
          <p:spPr>
            <a:xfrm flipH="1" flipV="1" rot="18832200">
              <a:off x="5884200" y="3915720"/>
              <a:ext cx="55440" cy="22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 flipV="1" rot="18832200">
              <a:off x="5719680" y="3810240"/>
              <a:ext cx="165600" cy="228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 flipV="1">
              <a:off x="4460040" y="3287880"/>
              <a:ext cx="1240560" cy="5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460760" y="3287520"/>
              <a:ext cx="1257480" cy="67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304960" y="2409480"/>
              <a:ext cx="434520" cy="141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304960" y="2409480"/>
              <a:ext cx="528120" cy="14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cercle05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474800" y="2154240"/>
            <a:ext cx="1735200" cy="1381320"/>
            <a:chOff x="4474800" y="2154240"/>
            <a:chExt cx="1735200" cy="1381320"/>
          </a:xfrm>
        </p:grpSpPr>
        <p:sp>
          <p:nvSpPr>
            <p:cNvPr id="576" name=""/>
            <p:cNvSpPr/>
            <p:nvPr/>
          </p:nvSpPr>
          <p:spPr>
            <a:xfrm flipH="1" flipV="1" rot="17614800">
              <a:off x="6066720" y="3350160"/>
              <a:ext cx="55440" cy="22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 rot="17614800">
              <a:off x="5871600" y="3289320"/>
              <a:ext cx="165960" cy="228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 flipV="1">
              <a:off x="4474800" y="3271320"/>
              <a:ext cx="1364040" cy="11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75160" y="3270960"/>
              <a:ext cx="1411920" cy="19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962600" y="2154240"/>
              <a:ext cx="898920" cy="117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962600" y="2154240"/>
              <a:ext cx="991080" cy="115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cercle04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4253400" y="2052720"/>
            <a:ext cx="1782360" cy="1202040"/>
            <a:chOff x="4253400" y="2052720"/>
            <a:chExt cx="1782360" cy="1202040"/>
          </a:xfrm>
        </p:grpSpPr>
        <p:sp>
          <p:nvSpPr>
            <p:cNvPr id="585" name=""/>
            <p:cNvSpPr/>
            <p:nvPr/>
          </p:nvSpPr>
          <p:spPr>
            <a:xfrm flipH="1" flipV="1" rot="15626400">
              <a:off x="5889960" y="2416320"/>
              <a:ext cx="55440" cy="228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flipV="1" rot="15626400">
              <a:off x="5684400" y="2441160"/>
              <a:ext cx="165960" cy="228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4456080" y="2602800"/>
              <a:ext cx="1203480" cy="65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4455720" y="2644200"/>
              <a:ext cx="12880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253400" y="2052720"/>
              <a:ext cx="1397160" cy="49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53400" y="2052720"/>
              <a:ext cx="1463040" cy="42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cercle03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3841560" y="1925280"/>
            <a:ext cx="1829520" cy="1327320"/>
            <a:chOff x="3841560" y="1925280"/>
            <a:chExt cx="1829520" cy="1327320"/>
          </a:xfrm>
        </p:grpSpPr>
        <p:sp>
          <p:nvSpPr>
            <p:cNvPr id="594" name=""/>
            <p:cNvSpPr/>
            <p:nvPr/>
          </p:nvSpPr>
          <p:spPr>
            <a:xfrm flipH="1" flipV="1" rot="14232000">
              <a:off x="5532480" y="1896120"/>
              <a:ext cx="55080" cy="22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 rot="14232000">
              <a:off x="5347800" y="1978200"/>
              <a:ext cx="166320" cy="228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4501800" y="2178360"/>
              <a:ext cx="848880" cy="10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4501440" y="2183040"/>
              <a:ext cx="942840" cy="106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3841560" y="2131560"/>
              <a:ext cx="1479240" cy="9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3841560" y="2043360"/>
              <a:ext cx="1513080" cy="18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cercle02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3402000" y="1532520"/>
            <a:ext cx="1495440" cy="1706400"/>
            <a:chOff x="3402000" y="1532520"/>
            <a:chExt cx="1495440" cy="1706400"/>
          </a:xfrm>
        </p:grpSpPr>
        <p:sp>
          <p:nvSpPr>
            <p:cNvPr id="603" name=""/>
            <p:cNvSpPr/>
            <p:nvPr/>
          </p:nvSpPr>
          <p:spPr>
            <a:xfrm flipH="1" flipV="1" rot="12553200">
              <a:off x="4789440" y="1530720"/>
              <a:ext cx="5544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 flipV="1" rot="12553200">
              <a:off x="4659480" y="1663560"/>
              <a:ext cx="165960" cy="228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4466160" y="1892160"/>
              <a:ext cx="245520" cy="134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4465440" y="1852200"/>
              <a:ext cx="331200" cy="138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3402000" y="1865160"/>
              <a:ext cx="1261080" cy="77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3402000" y="1771200"/>
              <a:ext cx="1249920" cy="87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cercle01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323160" y="1498680"/>
            <a:ext cx="1184040" cy="1746000"/>
            <a:chOff x="3323160" y="1498680"/>
            <a:chExt cx="1184040" cy="1746000"/>
          </a:xfrm>
        </p:grpSpPr>
        <p:sp>
          <p:nvSpPr>
            <p:cNvPr id="612" name=""/>
            <p:cNvSpPr/>
            <p:nvPr/>
          </p:nvSpPr>
          <p:spPr>
            <a:xfrm flipH="1" flipV="1" rot="11627400">
              <a:off x="4394160" y="1501560"/>
              <a:ext cx="55440" cy="22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 rot="11627400">
              <a:off x="4302000" y="1648800"/>
              <a:ext cx="165960" cy="228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385160" y="1881720"/>
              <a:ext cx="122040" cy="136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 flipV="1">
              <a:off x="4456800" y="1820160"/>
              <a:ext cx="49680" cy="142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3323160" y="1868040"/>
              <a:ext cx="1008360" cy="10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3323160" y="1780560"/>
              <a:ext cx="972360" cy="11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cercle01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405440" y="5348880"/>
            <a:ext cx="671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Times New Roman"/>
              </a:rPr>
              <a:t>Le cercle circonscrit passe par les trois sommets du triang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Times New Roman"/>
              </a:rPr>
              <a:t>et son centre est à l ’intersection des médiatrices</a:t>
            </a:r>
            <a:r>
              <a:rPr b="1" lang="en-US" sz="16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2363760" y="1979280"/>
            <a:ext cx="4524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U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APORAM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cercle62" descr=""/>
          <p:cNvPicPr/>
          <p:nvPr/>
        </p:nvPicPr>
        <p:blipFill>
          <a:blip r:embed="rId1"/>
          <a:stretch/>
        </p:blipFill>
        <p:spPr>
          <a:xfrm>
            <a:off x="2619360" y="1719360"/>
            <a:ext cx="3905280" cy="3419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25600" y="227880"/>
            <a:ext cx="8137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U CERC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ONSCRIT D ’UN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320280" y="1267920"/>
            <a:ext cx="1482840" cy="1706760"/>
            <a:chOff x="3320280" y="1267920"/>
            <a:chExt cx="1482840" cy="1706760"/>
          </a:xfrm>
        </p:grpSpPr>
        <p:sp>
          <p:nvSpPr>
            <p:cNvPr id="106" name=""/>
            <p:cNvSpPr/>
            <p:nvPr/>
          </p:nvSpPr>
          <p:spPr>
            <a:xfrm rot="20799600">
              <a:off x="3867840" y="1272960"/>
              <a:ext cx="69120" cy="207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20799600">
              <a:off x="3830400" y="1407600"/>
              <a:ext cx="207720" cy="207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92400" y="1604880"/>
              <a:ext cx="810720" cy="101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4043160" y="1521720"/>
              <a:ext cx="759600" cy="110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3320280" y="1620360"/>
              <a:ext cx="604800" cy="135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3320640" y="1569600"/>
              <a:ext cx="520920" cy="14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10:26:41Z</dcterms:created>
  <dc:creator>Vincent</dc:creator>
  <dc:description/>
  <dc:language>en-US</dc:language>
  <cp:lastModifiedBy>OBATON Vincent</cp:lastModifiedBy>
  <dcterms:modified xsi:type="dcterms:W3CDTF">2001-03-19T16:25:36Z</dcterms:modified>
  <cp:revision>69</cp:revision>
  <dc:subject/>
  <dc:title>PREMIERE ETAPE</dc:title>
</cp:coreProperties>
</file>